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B2E1C-EA6F-4667-AFA8-1F4D6E91E8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197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62120" y="4093920"/>
            <a:ext cx="76197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A3946-05FE-40FA-8082-52CAD95FCD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621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63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3E49E-E230-4D25-B26B-ECAFDA5573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8640" y="190476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15160" y="190476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62120" y="409392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8640" y="409392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15160" y="409392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59674-1DE2-47F9-B398-6A9DA571FD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96C27-5372-44F5-A99C-32665376CA4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2120" y="19047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F2811-E8F8-44C8-AD48-C6ED568B428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6939F-190E-4AB4-983B-1907ED2D404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4491B-53FA-41E9-B194-1F50F003E1E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AEF27-9249-4467-A3E5-85AB79DD562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75075-E77A-4A4D-96D9-FE7517891CA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21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AED68-6985-4410-93AC-5BF5EE07B2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62120" y="19047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D67CC-B7EE-47DB-8A3C-19332F806D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63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059A3-4981-48D9-A12E-AF5BD6EFAC7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2120" y="4093920"/>
            <a:ext cx="76197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4E7FA-8903-4258-BBF2-15E83952D24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197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2120" y="4093920"/>
            <a:ext cx="76197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5E908-DB75-41C0-9901-E73EC24796F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21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63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E4DE3-7556-44FF-B2CC-390B2C92AA1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8640" y="190476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15160" y="190476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2120" y="409392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8640" y="409392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15160" y="409392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BBC1E-4968-411E-B6B5-A28F6734C0C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4894-3B49-4CB2-BA25-513EF336A93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62120" y="19047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89A7-C90D-4E8E-B64D-07870946BF8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2402-9058-4A68-8C6C-AD766D00CA5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846B-E37C-4648-8DE8-C3EE6CB2C84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F689-E285-43DA-8191-003AF1CAC5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B9B64-E2AC-4B21-ADCB-1CE82C1E320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8428-BFB9-4345-A545-BA0F4C83583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7621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F372-C57E-4315-9314-39692CE2722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663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9A16-E1EC-4E56-9E15-40DA53C5EF7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62120" y="4093920"/>
            <a:ext cx="76197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5566-160E-4DBF-A719-5E17504B3BC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197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762120" y="4093920"/>
            <a:ext cx="76197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9526-CEFC-49C4-B792-7401B4B99EE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621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663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00C8-A707-40C6-8A0D-61FF5ECADA9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38640" y="190476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15160" y="190476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762120" y="409392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38640" y="409392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15160" y="409392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810D-4613-4011-AFCE-56B70F2C93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2151A-46E4-4759-9C16-C9F7F2FCB8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0C5BB-697F-4D20-855F-062C8E43DB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46EE3-8A2F-4523-B534-2F0B0F3AC5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621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92490-E06A-41A3-AF5B-B63E3BA142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63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0ED1B-27C5-4667-B60A-C3C5B2FC07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62120" y="4093920"/>
            <a:ext cx="76197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A0579-4549-450D-A9F5-7292FC8229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af39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47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7fd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7fd0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FF441-2F67-4118-942C-0B1D8FD559A6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Group 7"/>
          <p:cNvGrpSpPr/>
          <p:nvPr/>
        </p:nvGrpSpPr>
        <p:grpSpPr>
          <a:xfrm>
            <a:off x="380880" y="6400800"/>
            <a:ext cx="685440" cy="228600"/>
            <a:chOff x="380880" y="6400800"/>
            <a:chExt cx="685440" cy="228600"/>
          </a:xfrm>
        </p:grpSpPr>
        <p:sp>
          <p:nvSpPr>
            <p:cNvPr id="40" name="Freeform 8"/>
            <p:cNvSpPr/>
            <p:nvPr/>
          </p:nvSpPr>
          <p:spPr>
            <a:xfrm>
              <a:off x="844200" y="6400800"/>
              <a:ext cx="222120" cy="22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buClr>
                  <a:srgbClr val="f7fd03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af39"/>
                </a:solidFill>
                <a:latin typeface="Times New Roman"/>
              </a:endParaRPr>
            </a:p>
          </p:txBody>
        </p:sp>
        <p:sp>
          <p:nvSpPr>
            <p:cNvPr id="41" name="Freeform 9"/>
            <p:cNvSpPr/>
            <p:nvPr/>
          </p:nvSpPr>
          <p:spPr>
            <a:xfrm>
              <a:off x="635040" y="6400800"/>
              <a:ext cx="216360" cy="22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buClr>
                  <a:srgbClr val="f7fd03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af39"/>
                </a:solidFill>
                <a:latin typeface="Times New Roman"/>
              </a:endParaRPr>
            </a:p>
          </p:txBody>
        </p:sp>
        <p:sp>
          <p:nvSpPr>
            <p:cNvPr id="42" name="Freeform 10"/>
            <p:cNvSpPr/>
            <p:nvPr/>
          </p:nvSpPr>
          <p:spPr>
            <a:xfrm>
              <a:off x="380880" y="6400800"/>
              <a:ext cx="240840" cy="22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buClr>
                  <a:srgbClr val="f7fd03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af39"/>
                </a:solidFill>
                <a:latin typeface="Times New Roman"/>
              </a:endParaRPr>
            </a:p>
          </p:txBody>
        </p:sp>
      </p:grpSp>
      <p:sp>
        <p:nvSpPr>
          <p:cNvPr id="43" name="Text Box 11"/>
          <p:cNvSpPr/>
          <p:nvPr/>
        </p:nvSpPr>
        <p:spPr>
          <a:xfrm>
            <a:off x="1295280" y="6324480"/>
            <a:ext cx="49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"/>
              </a:rPr>
              <a:t>Zachodniopomorski Oddział Wojewódzki</a:t>
            </a:r>
            <a:endParaRPr b="1" lang="en-US" sz="1800" spc="-1" strike="noStrike">
              <a:solidFill>
                <a:srgbClr val="ffaf3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af39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62120" y="19047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7fd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7fd0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2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DEDB6-8F60-431D-AC64-DCDC33BB45AE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7"/>
          <p:cNvGrpSpPr/>
          <p:nvPr/>
        </p:nvGrpSpPr>
        <p:grpSpPr>
          <a:xfrm>
            <a:off x="380880" y="6400800"/>
            <a:ext cx="685440" cy="228600"/>
            <a:chOff x="380880" y="6400800"/>
            <a:chExt cx="685440" cy="228600"/>
          </a:xfrm>
        </p:grpSpPr>
        <p:sp>
          <p:nvSpPr>
            <p:cNvPr id="84" name="Freeform 8"/>
            <p:cNvSpPr/>
            <p:nvPr/>
          </p:nvSpPr>
          <p:spPr>
            <a:xfrm>
              <a:off x="844200" y="6400800"/>
              <a:ext cx="222120" cy="22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buClr>
                  <a:srgbClr val="f7fd03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af39"/>
                </a:solidFill>
                <a:latin typeface="Times New Roman"/>
              </a:endParaRPr>
            </a:p>
          </p:txBody>
        </p:sp>
        <p:sp>
          <p:nvSpPr>
            <p:cNvPr id="85" name="Freeform 9"/>
            <p:cNvSpPr/>
            <p:nvPr/>
          </p:nvSpPr>
          <p:spPr>
            <a:xfrm>
              <a:off x="635040" y="6400800"/>
              <a:ext cx="216360" cy="22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buClr>
                  <a:srgbClr val="f7fd03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af39"/>
                </a:solidFill>
                <a:latin typeface="Times New Roman"/>
              </a:endParaRPr>
            </a:p>
          </p:txBody>
        </p:sp>
        <p:sp>
          <p:nvSpPr>
            <p:cNvPr id="86" name="Freeform 10"/>
            <p:cNvSpPr/>
            <p:nvPr/>
          </p:nvSpPr>
          <p:spPr>
            <a:xfrm>
              <a:off x="380880" y="6400800"/>
              <a:ext cx="240840" cy="22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buClr>
                  <a:srgbClr val="f7fd03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af39"/>
                </a:solidFill>
                <a:latin typeface="Times New Roman"/>
              </a:endParaRPr>
            </a:p>
          </p:txBody>
        </p:sp>
      </p:grpSp>
      <p:sp>
        <p:nvSpPr>
          <p:cNvPr id="87" name="Text Box 11"/>
          <p:cNvSpPr/>
          <p:nvPr/>
        </p:nvSpPr>
        <p:spPr>
          <a:xfrm>
            <a:off x="1295280" y="6324480"/>
            <a:ext cx="49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"/>
              </a:rPr>
              <a:t>Zachodniopomorski Oddział Wojewódzki</a:t>
            </a:r>
            <a:endParaRPr b="1" lang="en-US" sz="1800" spc="-1" strike="noStrike">
              <a:solidFill>
                <a:srgbClr val="ffaf39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af39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62120" y="19047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7fd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7fd0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13338-3EA6-4D42-A0DE-497244468219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ymbol zastępczy numeru slajdu 3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9BD2F-8D9D-427E-8DB2-45D741E69C3B}" type="slidenum">
              <a:rPr b="0" lang="pl-PL" sz="1400" spc="-1" strike="noStrike">
                <a:solidFill>
                  <a:srgbClr val="ffaf39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af39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838080"/>
            <a:ext cx="792468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af39"/>
                </a:solidFill>
                <a:latin typeface="Times New Roman"/>
              </a:rPr>
              <a:t>Personalne listy pacjentów oczekujących </a:t>
            </a:r>
            <a:br>
              <a:rPr sz="3200"/>
            </a:br>
            <a:r>
              <a:rPr b="1" lang="pl-PL" sz="3200" spc="-1" strike="noStrike">
                <a:solidFill>
                  <a:srgbClr val="ffaf39"/>
                </a:solidFill>
                <a:latin typeface="Times New Roman"/>
              </a:rPr>
              <a:t>na wybrane świadczenia opieki zdrowotnej    </a:t>
            </a:r>
            <a:endParaRPr b="1" lang="en-US" sz="32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0" y="434340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af3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Angelika Milkiewicz-Ławicka </a:t>
            </a:r>
            <a:endParaRPr b="1" lang="en-US" sz="2000" spc="-1" strike="noStrike">
              <a:solidFill>
                <a:srgbClr val="ffaf3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Naczelnik Wydziału Spraw Świadczeniobiorców</a:t>
            </a:r>
            <a:endParaRPr b="1" lang="en-US" sz="2000" spc="-1" strike="noStrike">
              <a:solidFill>
                <a:srgbClr val="ffaf3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Zachodniopomorski Oddział Wojewódzki  NFZ</a:t>
            </a:r>
            <a:br>
              <a:rPr sz="2000"/>
            </a:b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Szczecin, 18 września 2009</a:t>
            </a:r>
            <a:endParaRPr b="1" lang="en-US" sz="2000" spc="-1" strike="noStrike">
              <a:solidFill>
                <a:srgbClr val="ffaf39"/>
              </a:solidFill>
              <a:latin typeface="Times New Roman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1087560" y="3684600"/>
            <a:ext cx="71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af39"/>
                </a:solidFill>
                <a:latin typeface="Times New Roman"/>
              </a:rPr>
              <a:t>Seminarium z udziałem Federacji Pacjentów Polskich</a:t>
            </a:r>
            <a:endParaRPr b="1" lang="en-US" sz="2400" spc="-1" strike="noStrike">
              <a:solidFill>
                <a:srgbClr val="ffaf39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ffaf39"/>
                </a:solidFill>
                <a:latin typeface="Times New Roman"/>
              </a:rPr>
              <a:t>Cel prowadzenia personalnych list pacjentów</a:t>
            </a: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8680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Cel głów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ówny, niedyskryminujący i przejrzysty dostęp do świadczeń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Cele szczegółow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monitorowanie czasu oczekiwania na świadczenie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prawa dostępności do lecze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zetelna informacja dla pacjentó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ciwdziałanie korupcj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określania zapotrzebowania na świadczenia zdrowot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Prowadzenie listy jest obowiązkiem ustawowym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ffaf39"/>
                </a:solidFill>
                <a:latin typeface="Arial"/>
              </a:rPr>
              <a:t>Zasady zapisywania na listę</a:t>
            </a: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85880" y="1371600"/>
            <a:ext cx="761976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Udzielanie świadczeń według kolejności zgłoszeni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2. Wpis na listę oczekujących wg. kategorii medycznej, od  której zależy termin realizacji świadczeni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26920" indent="-285480">
              <a:lnSpc>
                <a:spcPct val="100000"/>
              </a:lnSpc>
              <a:buClr>
                <a:srgbClr val="ff99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przypadek pilny – ze względu na dynamikę procesu chorobowego i możliwość szybkiego pogorszenia stanu zdrowia lub znaczącego zmniejszenia szans na powrót do zdrow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26920" indent="-285480">
              <a:lnSpc>
                <a:spcPct val="100000"/>
              </a:lnSpc>
              <a:buClr>
                <a:srgbClr val="ff99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przypadek stabiln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3. Nagłe pogorszenie stanu zdrowia - prawo do zmian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terminu leczen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4. Prowadzenie wpisów - na bieżąco, w dniu zgłoszenia do świadczeniodawc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ffaf39"/>
                </a:solidFill>
                <a:latin typeface="Times New Roman"/>
              </a:rPr>
              <a:t>Przekazywanie do NFZ personalnych list pacjentów z dokładnością do numeru PESEL </a:t>
            </a:r>
            <a:r>
              <a:rPr b="1" lang="pl-PL" sz="3000" spc="-1" strike="noStrike">
                <a:solidFill>
                  <a:srgbClr val="ffaf39"/>
                </a:solidFill>
                <a:latin typeface="Times New Roman"/>
              </a:rPr>
              <a:t> </a:t>
            </a: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7720" y="1676520"/>
            <a:ext cx="76201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Od 1 kwietnia 2008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na endoprotezoplastykę stawu biodrowego i kolanowe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wszczepianie implantów kręgosłup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Od 1 stycznia 200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usunięcia zaćm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angioplastyk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Symbol zastępczy numeru slajdu 3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53D86-6A30-4C4B-8D10-EE0FC13347D0}" type="slidenum">
              <a:rPr b="0" lang="pl-PL" sz="1400" spc="-1" strike="noStrike">
                <a:solidFill>
                  <a:srgbClr val="ffaf39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af39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pl-PL" sz="3000" spc="-1" strike="noStrike">
                <a:solidFill>
                  <a:srgbClr val="000000"/>
                </a:solidFill>
                <a:latin typeface="Times New Roman"/>
                <a:ea typeface="Calibri"/>
              </a:rPr>
              <a:t>Przypadki </a:t>
            </a:r>
            <a:r>
              <a:rPr b="1" lang="pl-PL" sz="3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wykreślone</a:t>
            </a:r>
            <a:r>
              <a:rPr b="1" lang="pl-PL" sz="3000" spc="-1" strike="noStrike">
                <a:solidFill>
                  <a:srgbClr val="000000"/>
                </a:solidFill>
                <a:latin typeface="Times New Roman"/>
                <a:ea typeface="Calibri"/>
              </a:rPr>
              <a:t> z listy oczekujących w efekcie  weryfikacji prowadzonej od kwietnia 2008 -  do czerwca 2009</a:t>
            </a:r>
            <a:r>
              <a:rPr b="1" lang="pl-PL" sz="3000" spc="-1" strike="noStrike">
                <a:solidFill>
                  <a:srgbClr val="ffaf39"/>
                </a:solidFill>
                <a:latin typeface="Times New Roman"/>
              </a:rPr>
              <a:t> </a:t>
            </a: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762012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0" name="Object 5"/>
          <p:cNvGraphicFramePr/>
          <p:nvPr/>
        </p:nvGraphicFramePr>
        <p:xfrm>
          <a:off x="838080" y="2057400"/>
          <a:ext cx="7283520" cy="332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057400"/>
                    <a:ext cx="7283520" cy="33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14240" y="35712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pl-PL" sz="3800" spc="-1" strike="noStrike">
                <a:solidFill>
                  <a:srgbClr val="ffaf39"/>
                </a:solidFill>
                <a:latin typeface="Times New Roman"/>
              </a:rPr>
              <a:t>Efekt weryfikacji personalnych list</a:t>
            </a:r>
            <a:br>
              <a:rPr sz="3800"/>
            </a:br>
            <a:endParaRPr b="1" lang="en-US" sz="38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Weryfikacja pozwoliła </a:t>
            </a:r>
            <a:r>
              <a:rPr b="1" lang="pl-PL" sz="2400" spc="-1" strike="noStrike" u="sng">
                <a:solidFill>
                  <a:srgbClr val="ffffff"/>
                </a:solidFill>
                <a:uFillTx/>
                <a:latin typeface="Times New Roman"/>
                <a:ea typeface="Calibri"/>
              </a:rPr>
              <a:t>usunąć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 z list oczekujących na endoprotezoplastykę 1.194 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PESELE powtarzające się więcej niż dwa razy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Weryfikacja pokazała, że średni wykazywany czas oczekiwania wynoszący 1.089 dni jest w rzeczywistości prawie trzy razy krótszy i </a:t>
            </a:r>
            <a:r>
              <a:rPr b="1" lang="pl-PL" sz="2400" spc="-1" strike="noStrike" u="sng">
                <a:solidFill>
                  <a:srgbClr val="ffffff"/>
                </a:solidFill>
                <a:uFillTx/>
                <a:latin typeface="Times New Roman"/>
                <a:ea typeface="Calibri"/>
              </a:rPr>
              <a:t>wynosi  329 dni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Fundusz nie finansuje planowych zabiegów endoprotezoplastyki, które wykonano z pominięciem list oczekujący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14240" y="35712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pl-PL" sz="3800" spc="-1" strike="noStrike">
                <a:solidFill>
                  <a:srgbClr val="ffaf39"/>
                </a:solidFill>
                <a:latin typeface="Times New Roman"/>
              </a:rPr>
              <a:t>Obecny czas oczekiwania na endoprotezę </a:t>
            </a:r>
            <a:br>
              <a:rPr sz="3800"/>
            </a:br>
            <a:endParaRPr b="1" lang="en-US" sz="38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stawu biodroweg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 6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do 600 dn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lne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105 d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bilne- 351 d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stawu kolanowe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 4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do 700 dn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lne- 100 d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bilne – 288 d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ffaf39"/>
                </a:solidFill>
                <a:latin typeface="Times New Roman"/>
              </a:rPr>
              <a:t>Korzyści z personalizacji list</a:t>
            </a: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Rzetelna i wiarygodna informacja o udzielanych świadczeniach zarówno dla pacjenta, jak i dla NFZ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Dane rzeczywiste, a nie orientacyj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Realne skrócenie czasu oczekiwania na wykonanie świadczenia poprzez możliwość wyboru świadczeniodawc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Dzięki identyfikacji pacjenta – realne skrócenie list oczekujących (pacjent oczekujący do jednego, a nie do kilku świadczeniodawców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9T07:43:08Z</dcterms:created>
  <dc:creator>MZydorowicz Biuro Dyrektora</dc:creator>
  <dc:description/>
  <dc:language>en-US</dc:language>
  <cp:lastModifiedBy>MKoszur</cp:lastModifiedBy>
  <cp:lastPrinted>2005-05-18T05:49:40Z</cp:lastPrinted>
  <dcterms:modified xsi:type="dcterms:W3CDTF">2009-09-18T13:26:13Z</dcterms:modified>
  <cp:revision>680</cp:revision>
  <dc:subject/>
  <dc:title>Prezentacja programu PowerPoint</dc:title>
</cp:coreProperties>
</file>