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5533-1906-4171-AB9A-C41B1A4402B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FCDD-37B3-4D00-B327-08D4F51B3EC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0311-126A-41F0-86B9-25B6D9655A1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0CD-2B88-45D4-9F49-DD4A7880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2AE5-277B-4DC4-9DA5-7C11922B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E375-993E-4A97-81AD-4A851B13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297-96EF-4549-8FD7-6381A2AC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5FF-4CFF-46D3-A829-C44C4B7C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377D7A-9DE2-4BF0-895C-4C90DE15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60F273-CEBD-4ADC-B695-213CF61F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3672A8-5DE9-4032-A20B-FE00A8C3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5A652F-9789-4DA4-BC1A-3232ADEF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96D773-28FC-46DD-A1B5-528ED998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4B7D-FC2F-44E8-8EB0-AE33E53E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C69CA8-7CAD-4DF3-9A63-95409D34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AED09D-8A98-44C6-A2AB-93AA93E0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E4853F-EF34-48C4-B034-768FCBE2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4AAB3C-AC6C-47FD-B17B-A7A4662A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F04463-1779-4D1F-866A-AC58D553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D631CA-FDCF-4CAE-8A80-0EB40886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0AC4E3-0D73-4A25-81E8-E93AE557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0910B2-2B4C-48D9-B7B6-B2BB5034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8CEC1A-E370-44F2-AAAD-3CDDB641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395D3-CD02-4BAC-997A-0B824163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B87-20E4-4036-AF0F-D15581A7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04C0AA-355D-489F-A822-791B30DD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D99567-739A-432D-9B86-D2FC7ED0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A9A34E-C9F9-490B-BF00-3E92F3F1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0C0298-4A0C-4233-B738-A99C22B1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578FCB-03F5-4AA5-85FB-488FB73D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F0F211-DBE4-4460-B530-51C4138E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E00891-F49A-44AF-887B-1355304F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E31E29-39CB-4C4C-A33E-33C0D363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0984F5-0E5F-4D73-A115-C9984A71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4DC187-1809-42E8-8185-DC03A30F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1DCD-5273-4D00-A3ED-68A9B53F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9EE250-F83C-49EE-815D-D130D424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D4AAD0-23B1-44D0-B2F1-247E8C52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1E4EFD-F712-42FA-A710-D25500D4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5C2B98-9810-4B0C-AB9C-A3B6285B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0F9D3E-B624-4337-9996-1A0B3F29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C6F787-B3C1-4C12-8CEF-B69292D0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9C79A7-F0F5-44A9-A21E-812C44BD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993750-D5FA-41D7-8541-D8DFD715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669212-3938-40A8-9A3F-863D88A9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5668C8-122D-4713-A207-5F772F83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EED-5913-47B1-AA80-6735925E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41F3ED-69E3-4EA7-9A5C-5C7107CC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785-EEE8-45A3-802D-873ABC26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331-53FE-4723-B57A-2B8D9B72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1CE-73EE-4306-96A7-2881102B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E23E-DCD5-466F-8E22-FAD80A9BB7AE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7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E2C9-8FEA-43B3-ABD8-1E3D89BA2E3A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87B6-0BFD-498B-87AE-FA9CA895F0C5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52CE-3B1C-4D89-96BC-5544DCA9EC1A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isty oczekujących na świadczenia opieki zdrowot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nfz_logo_A_kolor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3785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sady prowadzenia list oczekujących spersonalizowanych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6858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lanowany termin udzielenia świadczenia oznaczany jest z dokładnością do dnia, jeżeli przekracza on 6 miesięcy licząc od daty wpisu na listę oczekujących dopuszczalne jest wskazanie terminu z dokładnością do tygodnia (terminem wskazanym jest pierwszy dzień tygodnia – poniedziałek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datkowe wolne terminy, które powstaną niezależnie od przyczyny należy przeznaczyć na przyspieszenie terminów realizacji świadczeń dla pacjentów czekających najdłużej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odawca wyznacza osobę odpowiedzialną za systematyczne i terminowe przekazywanie do oddziału wojewódzkiego NFZ za pośrednictwem udostępnionej aplikacji danych z zakresu list oczekujących; informację o wyznaczonej osobie wraz z adresem poczty elektronicznej i numerem telefonu, świadczeniodawca przekazuje NFZ w celu ułatwienia kontakt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rzyści personalizacji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e rzeczywiste, a nie orientac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etelna i wiarygodna informacja o udzielanych świadczeniach zarówno dla pacjenta, jak i dla NF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ne skrócenie czasu oczekiwania na wykonanie świadczenia poprzez możliwość wyboru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ęki identyfikacji pacjenta – realne skrócenie list oczekujących (pacjent oczekujący do jednego, a nie kilku świadczeniodawcó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szczepianie endoprotez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9 roku 291 świadczeniodawców z terenu całego kraju, dokonywało wszczepów endoprotez stawowych w tym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świadczeniodawców z terenu województwa lubuski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styczeń-sierpień 2009r. W naszym województwie całym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00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 wszczepienia endoprotez staw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stanu na koniec czerwca 2009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przewidywany czas oczeki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 dniach) wyno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endoprotezoplastyka stawu biodrowego: średnia krajowa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03 dn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średnia województwa lubuskiego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686 dn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padki stabil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endoprotezoplastyka stawu kolanowego: średnia krajowa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18 dn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średnia województwa lubuskiego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640 dn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padki stabil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Zajmujemy 12 miejsce w kraj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biegi w zakresie soczewki (zaćma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9 roku 206 świadczeniodawców z terenu całego kraju, dokonywało zabiegów w zakresie soczewki (zaćma) w tym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świadczeniodawców z terenu województwa lubuski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styczeń-sierpień 2009r. W naszym województwie całym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 35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stanu na koniec czerwca 2009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przewidywany czas oczeki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 dniach) na zabieg wynosi: średnia krajowa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23 dn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średnia dla województwa lubuskiego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59 dn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przypadki stabilne).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Zajmujemy 3 miejsce w kraj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ziękuję za uwag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4" descr="nfz_logo_A_kolor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ele prowadzenia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 głów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37"/>
              </a:spcBef>
              <a:spcAft>
                <a:spcPts val="90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równego traktowania wszystkich pacjentów poprzez równy, niedyskryminujący i przejrzysty dostęp do świadczeń opieki zdrowot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owanie okresu oczekiwania na udzielenie świadczenia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rawa dostępności do świadcze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ta, rzetelna i dokładna informacja dla pacje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012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yskanie informacji dla określania zapotrzebowania na świadczenia zdrow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wadzenie listy jest obowiązkiem ustawowy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Ustawa o świadczeniach opieki zdrowotnej finansowanych ze środków publicznyc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6 września 2005 r. w sprawie kryteriów medycznych, jakimi powinni kierować się świadczeniodawcy, umieszczając świadczeniobiorców na listach oczekujących na udzielenie świadczenia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7 czerwca 2006 r. w sprawie zakresu niezbędnych informacji gromadzonych przez świadczeniodawców, szczegółowego sposobu rejestrowania tych informacji oraz ich przekazywania podmiotom zobowiązanym do finansowania świadczeń ze środków publicznyc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7 grudnia 2007 r. w sprawie sposobu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i kryteriów ustalania dopuszczalnego czasu oczekiwania na wybrane świadczenia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6 maja 2008 r. w sprawie ogólnych warunków umów o udzielanie świadczeń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m Ministra Zdrowia z dnia 20 czerwca 2008 r. w sprawie zakresu niezbędnych informacji gromadzonych przez świadczeniodawców, szczegółowego sposobu rejestrowania tych informacji oraz ich przekazywania podmiotom zobowiązanym do finansowania świadczeń ze środków publiczny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Zarządzenie Nr 93/2008/DSOZ Prezesa Narodowego Funduszu Zdrowia z dnia 22 października 2008 r. w sprawie określenia warunków zawierania i realizacji umów w rodzaju: leczenie szpitalne ­– załącznik nr 12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tóre świadczenia? </a:t>
            </a:r>
            <a:r>
              <a:rPr b="0" lang="pl-P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sty oczekujących prowadzone są między innymi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bulatoryjnej opieki specjalistycz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zpital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psychiatrycznej i leczenia uzależni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habilitacji lecznicz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długotermin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tomatologicz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romadzone dane o liczbie oczekujących i średnim czasie oczekiwania na świadczenia są przekazywane do NF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sady zapisywania na list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wiadczenia zdrowotne powinny być udzielane według kolejności zgłosze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cjent, któremu nie można udzielić świadczeń w chwili przyjęcia powinien zostać wpisany na listę oczekujących w jednej z dwóch kategorii medycznych, od której zależy termin realizacji 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p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wymaga pilnego udzielenia świadczenia ze względu na dynamikę procesu chorobow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możliwość szybkiego pogorszenia stanu zdrowia lub znaczącego zmniejszenia szans na powrót do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stab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nie znajduje się w stanie nagłym i nie został zakwalifikowany jako przypadek pil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agłego pogorszenia stanu zdrowia pacjent ma prawo do zmiany terminu l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enie wpisów na listy oczekujących powinno odbywać się na bieżąco – pacjent powinien zostać zapisany na listę oczekujących w dniu zgłoszenia d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Zmiany w sprawozdawczości z list oczekujących od stycznia 2010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godnie z § 12 rozporządzeniem Ministra Zdrowia z dnia 20 czerwca 2008 r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sprawie zakresu niezbędnych informacji gromadzonych przez świadczeniodawców, szczegółowego sposobu rejestrowania tych informacj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 ich przekazywania podmiotom zobowiązanym do finansowania świadczeń ze środków publicznych (Dz. U. Nr 123, poz. 801)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ylko do 31.12.2009 r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przekazywane są  do LOW NFZ informacje o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średnim przewidywanym czasie oczekiwania do komórek organizacyjny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liczbie oczekujących i średnich czasach oczekiwania (przewidywanym i rzeczywistym) na wybrane procedury medyczne oraz leczenia w ramach terapeutycznych programów zdrowot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edług nowych, uproszczonych zasad świadczeniodawca sprawozdawać będzie tylko informację o liczbie oczekujących oraz średnim rzeczywistym czasie oczekiwania w poszczególnych komórkach organizacyjn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a list oczekujących na leczenie zać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IV kwartał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owy  brak przekazywania komunikatu (ok. 25% świadczeniodawcó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lku świadczeniodawców w ogóle nie prowadziło list i nie przekazywało do Funduszu informacji o kolejka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ełne dane (ok. 3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e informacje sprzeczne z rzeczywistymi danymi znajdującymi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dokumentacji (ok. 4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aktualizacji 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czekiwania znacząco krótszy, niż wynikałoby to z informacji przekazanej do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spójne dane – czas oczekiwania w kategorii pilny dłuższy niż stabi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rzestrzeganie kolejności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ywanie zabiegu, pomimo braku wpisu na liśc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sadne przekwalifikowanie pacjenta z kategorii „stabilny” do kategorii „piln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Listy spersonalizowa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ją zbieranie danych, które pozwalają jednoznaczną identyfikację pacjenta (poprzez numer PESEL) oczekującego na wybrane procedury med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FZ zbiera dane o oczekujących na wybrane, drogie specjalistyczne zabiegi, na które czeka się najdłuż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endoprotez staw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2009 roku zbierane są dane spersonalizowane d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gioplasty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wa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ne do Funduszu dane w pełni oddają rzeczywistoś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walają na kompleksową analizę procedur wykony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 konkretneg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3785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sady prowadzenia list oczekujących spersonalizowanych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68580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a opieki zdrowotnej są udzielane według kolejności zgłoszenia, z uwzględnieniem stanu zdrowia pacjen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odawca wpisuje świadczeniobiorcę na listę oczekujących po stwierdzeniu, że posiada wymagane skierowanie na świadczenie danego rodzaju; skierowania z brakami, pozbawione istotnych danych, nie mogą być przyczyną nie wpisania na listę oczekujących – należy wystąpić do pacjenta o uzupełnienie danych lub uzyskać od lekarza kierujące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mieszczenie pacjenta na liście oczekujących powinno nastąpić w dniu zgłoszenia się do świadczeniodawcy, należy pisemnie poinformować pacjenta o terminie udzielenia świadczenia (może to być adnotacja na skierowaniu potwierdzona pieczęcią świadczeniodawcy i podpisem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2:47Z</dcterms:created>
  <dc:creator>NFZ</dc:creator>
  <dc:description/>
  <cp:keywords/>
  <dc:language>en-US</dc:language>
  <cp:lastModifiedBy>prezentacja</cp:lastModifiedBy>
  <dcterms:modified xsi:type="dcterms:W3CDTF">2009-09-15T11:01:06Z</dcterms:modified>
  <cp:revision>75</cp:revision>
  <dc:subject/>
  <dc:title>Listy oczekujących na świadczenia opieki zdrowotne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5</vt:lpwstr>
  </property>
</Properties>
</file>