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20210-F5CC-42D6-B327-70FD38166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C0BF-B1B0-446A-A27B-0DF181073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F5C1-2285-4909-82EC-3AA1707A8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B25F-54CD-4116-8050-4851B60A5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6E18F-355F-46D6-A959-D46EDF1CA9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9CF7-0E65-4E07-9A15-B980251796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01546-F541-4F11-89BD-6FF3DE8A92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3DF60-4F43-4100-B2A5-9551CE6805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F0B4-98C6-4DC5-809E-EED0FDDC1E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AF35-D64C-4DD2-B522-F197DEA37F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1F89-7EAD-481A-9D82-601208EFFC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90F5-919E-4B9A-A465-1E6361C31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C179-DC04-4F82-9F34-A8A627CCCD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F9F3D-BCE3-435F-B270-4AF5ACDCE2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AA7AD-EE2E-4ED3-A852-F4EED9BA48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0BB5-C7C6-44AE-98C7-24936484C0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1732B-3463-49C1-945E-93D994DD69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BB0-95FA-4503-943A-0D8D021C17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7E9-6A11-49FF-B255-087D8037D9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387-B114-49CC-80B9-B18BB83DD7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E49-EF4E-46D6-A656-FF68879D92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012-BFB6-40D7-84C6-24BF17CEE0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ED40-E1EC-4966-8AFE-B0CE02C33E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CA4-B2B7-4699-9182-7C6338F6F9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3E4-EDFC-4C08-9FB9-A4D5BE058A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C4B-17E8-4E00-8A1E-C1538CCA81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94D-31DE-4477-B3AA-31CD5C4F9E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2C7-090E-4CDA-9104-D326BDA426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501-8A0C-46D9-A303-AE04F2C94F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1FA-12BD-4D6E-8F04-25636696E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E211-0214-4070-AB74-9CBD8F913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E3DA-02D2-4397-83CA-5A4671DF5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E0B5-7E86-4F49-B768-229584003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7F59-47AB-4978-B29A-9DDF5CFB4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D44B-4EB4-484D-AA25-0D01A944D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0A9D-77F7-4D87-8ABF-40726B1AA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A3AA-1882-4465-A2FA-341FDA09103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40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1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2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43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118F-6127-4549-9671-ADD4A97578B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84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87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747B-FBE0-4B55-89F6-C5FB3DE9838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1809-DCEE-4849-BB05-84CE0F998756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Personalne listy pacjentów oczekujących </a:t>
            </a:r>
            <a:br>
              <a:rPr sz="3200"/>
            </a:b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na wybrane świadczenia opieki zdrowotnej    </a:t>
            </a:r>
            <a:endParaRPr b="1" lang="en-US" sz="32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43434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Angelika Milkiewicz-Ławicka 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Naczelnik Wydziału Spraw Świadczeniobiorców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Zachodniopomorski Oddział Wojewódzki  NFZ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Szczecin, 18 września 2009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087560" y="3684600"/>
            <a:ext cx="71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af39"/>
                </a:solidFill>
                <a:latin typeface="Times New Roman"/>
              </a:rPr>
              <a:t>Seminarium z udziałem Federacji Pacjentów Polskich</a:t>
            </a:r>
            <a:endParaRPr b="1" lang="en-US" sz="2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Cel prowadzenia personalnych list pacjentów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868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 głów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ówny, niedyskryminujący i przejrzysty dostęp do świadcze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e szczegół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onitorowanie czasu oczekiwania na świadczeni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a dostępności do lecz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zetelna informacja dla pacjent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ciwdziałanie korupc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kreślania zapotrzebowania na świadczenia zdrowot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owadzenie listy jest obowiązkiem ustawowy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Arial"/>
              </a:rPr>
              <a:t>Zasady zapisywania na listę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5880" y="1371600"/>
            <a:ext cx="76197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dzielanie świadczeń według kolejności zgłoszen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2. Wpis na listę oczekujących wg. kategorii medycznej, od  której zależy termin realizacji świadczen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pilny – ze względu na dynamikę procesu chorobowego i możliwość szybkiego pogorszenia stanu zdrowia lub znaczącego zmniejszenia szans na powrót do zdrow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stabil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3. Nagłe pogorszenie stanu zdrowia - prawo do zmia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terminu lecze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4. Prowadzenie wpisów - na bieżąco, w dniu zgłoszenia do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Przekazywanie do NFZ personalnych list pacjentów z dokładnością do numeru PESEL 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6765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kwietnia 2008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na endoprotezoplastykę stawu biodrowego i kolanow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wszczepianie implantów kręgosłu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stycznia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sunięcia zać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angioplasty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C65C-D4A1-4AB8-852A-5E7504BF472B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Przypadki </a:t>
            </a:r>
            <a:r>
              <a:rPr b="1" lang="pl-PL" sz="3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wykreślone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z listy oczekujących w efekcie  weryfikacji prowadzonej od kwietnia 2008 -  do czerwca 2009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838080" y="2057400"/>
          <a:ext cx="7283520" cy="33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2835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Efekt weryfikacji personalnych list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zwoliła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usunąć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z list oczekujących na endoprotezoplastykę 1.194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PESELE powtarzające się więcej niż dwa raz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kazała, że średni wykazywany czas oczekiwania wynoszący 1.089 dni jest w rzeczywistości prawie trzy razy krótszy i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wynosi  329 dni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Fundusz nie finansuje planowych zabiegów endoprotezoplastyki, które wykonano z pominięciem list oczekując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Obecny czas oczekiwania na endoprotezę 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biodrowe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6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6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ne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105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- 351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kolanow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4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7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lne- 100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 – 288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Korzyści z personalizacji lis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zetelna i wiarygodna informacja o udzielanych świadczeniach zarówno dla pacjenta, jak i dla NF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ane rzeczywiste, a nie orientacyj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ealne skrócenie czasu oczekiwania na wykonanie świadczenia poprzez możliwość wyboru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zięki identyfikacji pacjenta – realne skrócenie list oczekujących (pacjent oczekujący do jednego, a nie do kilku świadczeniodawców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7:43:08Z</dcterms:created>
  <dc:creator>MZydorowicz Biuro Dyrektora</dc:creator>
  <dc:description/>
  <dc:language>en-US</dc:language>
  <cp:lastModifiedBy>MKoszur</cp:lastModifiedBy>
  <cp:lastPrinted>2005-05-18T05:49:40Z</cp:lastPrinted>
  <dcterms:modified xsi:type="dcterms:W3CDTF">2009-09-18T13:26:13Z</dcterms:modified>
  <cp:revision>680</cp:revision>
  <dc:subject/>
  <dc:title>Prezentacja programu PowerPoint</dc:title>
</cp:coreProperties>
</file>