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32D2-9CD1-4E30-AD1D-E8427F7E85C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7130-7C13-44ED-918F-4A95CD0BDA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B29A-02C4-4D5C-B0ED-31CEBF7A8E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447-7A62-4FB9-A045-FE0F1790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520-DAFA-45CD-893B-E96B85B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D2C-7D89-4BED-9801-8366BF76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8682-1E8B-4995-B1CF-9FE1DDC3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37E-D345-4967-B4B6-8EC04529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94251B-B1E1-4BA9-8C12-F0237F5DD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9D027B-41B8-4CA9-AC30-003D1731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A26007-63BD-4F1C-8D0B-40D05A1B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1878F7-1FFF-4C41-B11F-221C2BCA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9F02E-0162-4834-A7DE-BFFF5112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4DF-8A77-4039-B793-300E526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12488-5653-4004-BB4E-91E9EF97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F138A-2B3C-4A6F-A637-93BDD0F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EAD61-751F-4199-8066-A25F2F7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0D70A-4B70-4706-A9CE-83E6D35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B9D13E-F0DA-474D-A851-D0F7296F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3C033-00B4-43E7-A726-A9E0687F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E46C83-025A-4958-8982-0DB209BB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8DF06E-A740-4086-8B39-05120851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AEFE7-D6F8-4B28-A5BC-D832F8D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9AD4E-B05A-4069-8F29-A7E137DD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9D6-4AB0-4EBA-91C0-087998F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F1D36-E88D-4F92-89DF-363F16A4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F1199A-A262-44E8-B4AB-8E09E1AA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EC250-F9F8-41FE-856A-A5CED61F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3ED1E-D12D-48A8-BD63-151DDACB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9BEF0-819E-4CFF-865A-D6AB9E7E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21294-5884-40FF-9746-F326FF1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984EB-6874-49BA-BCFE-FDD7D08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25ABC-F689-41B6-81B5-E5568E87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A1A7A-F8DB-4B2F-B3AF-7819F273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24FE73-97CF-49C5-9050-6CABC705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CD81-F489-4690-AB29-38590C5D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ABF24-55C9-4914-88BD-A3A245E2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CF8926-ECB9-4751-AF4E-819D8E15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D27F7-B882-40A9-BC45-155ECFB1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E974E4-A938-447A-81E7-5AA77D1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924FE9-5DBC-4196-9D48-D0C9C5C6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883055-71D1-49BA-9455-38C6CC23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FB0C8A-AABC-4AD1-90BB-88D2D034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A3DDFD-6166-49C9-8A1E-13738E5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EB1B5-37E6-45AF-995D-E4E4103E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0CD56C-C565-4B05-A2E7-195AA3CF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F6E-3AED-4327-9E88-EC454AA7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0FA13E-4949-4EB5-8D83-9BAF7DF0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C4C-D99F-4745-ACDA-F017E651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D4D-BD7A-4778-966C-9BCB6E1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87D-6E1E-45EC-AA4F-0E15E292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A851-AF15-4723-9682-441FC6D39FF8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A3F6-75D7-4D0B-BFC4-4FE1EBE471E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B4E6-DDF9-4E44-9343-3A5D7953688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38CC-D566-400B-A30E-AFEFDDEFDE0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lanowany termin udzielenia świadczenia oznaczany jest z dokładnością do dnia, jeżeli przekracza on 6 miesięcy licząc od daty wpisu na listę oczekujących dopuszczalne jest wskazanie terminu z dokładnością do tygodnia (terminem wskazanym jest pierwszy dzień tygodnia – poniedziałek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odatkowe wolne terminy, które powstaną niezależnie od przyczyny należy przeznaczyć na przyspieszenie terminów realizacji świadczeń dla pacjentów czekających najdłużej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yznacza osobę odpowiedzialną za systematyczne i terminowe przekazywanie do oddziału wojewódzkiego NFZ za pośrednictwem udostępnionej aplikacji danych z zakresu list oczekujących; informację o wyznaczonej osobie wraz z adresem poczty elektronicznej i numerem telefonu, świadczeniodawca przekazuje NFZ w celu ułatwienia konta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91 świadczeniodawców z terenu całego kraju, dokonywało wszczepów endoprotez stawowych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0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 wszczepienia endoprotez staw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wyno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biodr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03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86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endoprotezoplastyka stawu kolanowego: średnia krajowa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518 dn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średnia województwa lubuskiego-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640 dn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przypadki stabil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jmujemy 12 miejsce w kraj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biegi w zakresie soczewki (zaćma)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9 roku 206 świadczeniodawców z terenu całego kraju, dokonywało zabiegów w zakresie soczewki (zaćma) w tym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 świadczeniodawców z terenu województwa lubuskieg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kresie styczeń-sierpień 2009r. W naszym województwie całym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35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dług stanu na koniec czerwca 2009r.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przewidywany czas oczekiwani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 dniach) na zabieg wynosi: średnia krajowa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23 dn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średnia dla województwa lubuskiego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59 dni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przypadki stabilne)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Zajmujemy 3 miejsce w kraj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Dziękuję za uwag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nfz_logo_A_kolor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Rozporządzeniem Ministra Zdrowia z dnia 20 czerwca 2008 r. w sprawie zakresu niezbędnych informacji gromadzonych przez świadczeniodawców, szczegółowego sposobu rejestrowania tych informacji oraz ich przekazywania podmiotom zobowiązanym do finansowania świadczeń ze środków publicz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Zmiany w sprawozdawczości z list oczekujących od stycznia 2010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godnie z § 12 rozporządzeniem Ministra Zdrowia z dnia 20 czerwca 2008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sprawie zakresu niezbędnych informacji gromadzonych przez świadczeniodawców, szczegółowego sposobu rejestrowania tych informac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ich przekazywania podmiotom zobowiązanym do finansowania świadczeń ze środków publicznych (Dz. U. Nr 123, poz. 801)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ylko do 31.12.2009 r.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przekazywane są  do LOW NFZ informacje 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średnim przewidywanym czasie oczekiwania do komórek organizacyjn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-liczbie oczekujących i średnich czasach oczekiwania (przewidywanym i rzeczywistym) na wybrane procedury medyczne oraz leczenia w ramach terapeutycznych programów zdrowot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edług nowych, uproszczonych zasad świadczeniodawca sprawozdawać będzie tylko informację o liczbie oczekujących oraz średnim rzeczywistym czasie oczekiwania w poszczególnych komórkach organizacyjny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737856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Zasady prowadzenia list oczekujących spersonalizowanych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267920"/>
            <a:ext cx="68580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a opieki zdrowotnej są udzielane według kolejności zgłoszenia, z uwzględnieniem stanu zdrowia pacjen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świadczeniodawca wpisuje świadczeniobiorcę na listę oczekujących po stwierdzeniu, że posiada wymagane skierowanie na świadczenie danego rodzaju; skierowania z brakami, pozbawione istotnych danych, nie mogą być przyczyną nie wpisania na listę oczekujących – należy wystąpić do pacjenta o uzupełnienie danych lub uzyskać od lekarza kierująceg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mieszczenie pacjenta na liście oczekujących powinno nastąpić w dniu zgłoszenia się do świadczeniodawcy, należy pisemnie poinformować pacjenta o terminie udzielenia świadczenia (może to być adnotacja na skierowaniu potwierdzona pieczęcią świadczeniodawcy i podpisem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prezentacja</cp:lastModifiedBy>
  <dcterms:modified xsi:type="dcterms:W3CDTF">2009-09-15T11:01:06Z</dcterms:modified>
  <cp:revision>75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