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CF48-2810-4F41-B66E-FB135F2489E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1A63-62D4-47D3-B3B5-817126C0B82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512E-74CA-4D2A-A952-AE65601A36F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89A-3FBA-4244-A20F-C0AE475D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49B-4354-4937-8A78-B68D260A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A20-860E-4426-B27F-99F03699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269-211B-49C6-9F32-35F88601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BD9-6DAA-4F78-A112-60FCA447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A699D7-501B-4427-8145-C0AA7FB4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F79E54-68F1-484E-9DC4-73D332C0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EE35FD-642B-44CC-AE3C-D78D458A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A9A569-15AD-4A33-B75D-497EF16C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FAD0D9-7E1A-49D4-B6D2-B9AE61A9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2A92-08CC-4C96-BFD2-B2C350B5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88CEC2-02C2-4D6B-83F1-5556A008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EACFAB-8C2B-4E4E-AA9D-6FFE321B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49126B-87FE-4375-AA3B-2F1A55C0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9DD398-ABE9-4E7D-A6F8-3C4B0154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FD8083-0E51-494C-9EF7-69DA0CA5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E93CC9-1B4A-4A5D-94D9-93A4A78B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001134-4F39-45EE-962A-E8FB3C3A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32AB64-FDEE-4C5B-B12D-0692B6B8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78D2CD-383E-48A4-A48C-88D30BF7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98795-CB84-401F-8BB4-7B721B52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27C-6593-4AD6-9D20-F7A67268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261FAB-45B8-4E84-B371-D7FE5E06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7D8F8-FEC1-4854-B267-923018B7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B457ED-530D-49C4-9198-BB5FE329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DABF70-45CA-430D-B8D6-4D5A8266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A3660-5967-49D6-AFCB-1856DC80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5084AA-21D0-4881-92C8-80B58F04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FB664B-3F97-4787-89D9-3EB50523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3DFC0-CFD6-47FD-BBB9-D5C32A8A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C5F9B5-8252-4151-92B8-786FB613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66C79E-3046-493E-911C-A301DD91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C0B-949C-400E-8053-02A235FD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99FA9B-60F6-4A79-A426-17FABC16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E9324B-D442-42B1-91F2-868F8506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9D45EE-2957-4781-9C91-5025C028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72405A-3C09-4038-8876-A980DE29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0508D8-EACA-465E-9E76-AA4A49E9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5562C8-CF09-4EDC-B5B7-3AF0072E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F4F953-35C9-4961-9605-A8104306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10F5FE-4F04-4A00-B90D-EB6178EA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02B47A-A917-4E23-994E-66DBC6A7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669664-6B34-489A-B26E-31469478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695-A744-4817-AF6D-A97AD3C6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8FD9C3-664B-428D-931E-6AA6C5B2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3D3A-6093-42F9-9D1B-CC1A0EE7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055-CEC4-481D-AC03-D46EA171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16A-2346-479B-AC41-5EECB4E2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2F49-F94A-4E2A-B80C-C794AA31176A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7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B466-68D7-417E-8CCC-01C1615D7283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53B0-CFFD-4F3E-9557-34DC82311D85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3EE2-BDDF-4571-A3D3-10DFBE7B3D55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lanowany termin udzielenia świadczenia oznaczany jest z dokładnością do dnia, jeżeli przekracza on 6 miesięcy licząc od daty wpisu na listę oczekujących dopuszczalne jest wskazanie terminu z dokładnością do tygodnia (terminem wskazanym jest pierwszy dzień tygodnia – poniedziałek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datkowe wolne terminy, które powstaną niezależnie od przyczyny należy przeznaczyć na przyspieszenie terminów realizacji świadczeń dla pacjentów czekających najdłużej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yznacza osobę odpowiedzialną za systematyczne i terminowe przekazywanie do oddziału wojewódzkiego NFZ za pośrednictwem udostępnionej aplikacji danych z zakresu list oczekujących; informację o wyznaczonej osobie wraz z adresem poczty elektronicznej i numerem telefonu, świadczeniodawca przekazuje NFZ w celu ułatwienia kontakt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91 świadczeniodawców z terenu całego kraju, dokonywało wszczepów endoprotez stawowych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00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 wszczepienia endoprotez staw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wyno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biodr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03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86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kolan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18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40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Zajmujemy 12 miejsce w kraj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biegi w zakresie soczewki (zaćma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06 świadczeniodawców z terenu całego kraju, dokonywało zabiegów w zakresie soczewki (zaćma)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35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na zabieg wynosi: średnia krajowa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23 dn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średnia dla województwa lubuskiego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59 dn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przypadki stabilne).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Zajmujemy 3 miejsce w kra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ziękuję za uwag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m Ministra Zdrowia z dnia 20 czerwca 2008 r. w sprawie zakresu niezbędnych informacji gromadzonych przez świadczeniodawców, szczegółowego sposobu rejestrowania tych informacji oraz ich przekazywania podmiotom zobowiązanym do finansowania świadczeń ze środków publiczny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Zmiany w sprawozdawczości z list oczekujących od stycznia 2010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godnie z § 12 rozporządzeniem Ministra Zdrowia z dnia 20 czerwca 2008 r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sprawie zakresu niezbędnych informacji gromadzonych przez świadczeniodawców, szczegółowego sposobu rejestrowania tych informacj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ich przekazywania podmiotom zobowiązanym do finansowania świadczeń ze środków publicznych (Dz. U. Nr 123, poz. 801)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ylko do 31.12.2009 r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przekazywane są  do LOW NFZ informacje o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średnim przewidywanym czasie oczekiwania do komórek organizacyjny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liczbie oczekujących i średnich czasach oczekiwania (przewidywanym i rzeczywistym) na wybrane procedury medyczne oraz leczenia w ramach terapeutycznych programów zdrowot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edług nowych, uproszczonych zasad świadczeniodawca sprawozdawać będzie tylko informację o liczbie oczekujących oraz średnim rzeczywistym czasie oczekiwania w poszczególnych komórkach organizacyjn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a opieki zdrowotnej są udzielane według kolejności zgłoszenia, z uwzględnieniem stanu zdrowia pacjen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pisuje świadczeniobiorcę na listę oczekujących po stwierdzeniu, że posiada wymagane skierowanie na świadczenie danego rodzaju; skierowania z brakami, pozbawione istotnych danych, nie mogą być przyczyną nie wpisania na listę oczekujących – należy wystąpić do pacjenta o uzupełnienie danych lub uzyskać od lekarza kierujące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mieszczenie pacjenta na liście oczekujących powinno nastąpić w dniu zgłoszenia się do świadczeniodawcy, należy pisemnie poinformować pacjenta o terminie udzielenia świadczenia (może to być adnotacja na skierowaniu potwierdzona pieczęcią świadczeniodawcy i podpisem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prezentacja</cp:lastModifiedBy>
  <dcterms:modified xsi:type="dcterms:W3CDTF">2009-09-15T11:01:06Z</dcterms:modified>
  <cp:revision>75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