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A61A8-23B4-48DD-9671-38E68C40B4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C9C2F-DC72-40AE-ABC6-0F2E65818E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2ADD7-2B11-4F53-89D8-8B2A74BA8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864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516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6212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864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516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DD092-C37D-43BF-B035-33CB2B2A99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700EC-83A2-4765-BD00-164DB112B0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9BB4A-17E5-41D0-8FC7-5E34DB88BC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746F1-52CE-44EB-A084-190C20235D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7C880-0705-4E0E-99BF-22073DC0AC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4A7B4-99A6-4771-B30E-0867649225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D7B7A-9C13-4685-AF07-217B5CB0F4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1EB91-7A0F-4CF6-A2DB-9425797419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128D7-D1BA-49B4-AE0A-6B6ACF4CB1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89B4B-1FD0-494E-B1A7-967FBB71B5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D5295-E950-49EB-BD07-67ADEB2C19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FDD8D-CF7B-4CA9-9F7C-9CE722548E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32210-D281-4F01-AEE0-117D520732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864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1516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864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1516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5AAA8-B62C-41E8-A793-AE8BD51FEAF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F346-F66A-473E-80A5-E1B62E9C482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86D9-FB9A-4296-8CC6-378E1225665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1730-7690-4965-90D7-CFD26474875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6B32-8D91-4135-A295-80039285C2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9348-B93C-442F-B339-D6E7107719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68179-3FAD-4358-B92F-579008BD076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30EA-3999-4965-B344-3B69CA60BD2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CC1F-C2BE-46F2-82AF-DB0954F08D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9EB1-D3B9-41E3-9426-3571890C874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D93A-4E1A-4056-8E8D-5B0B8D8E83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DA7E-837C-4764-AC75-82D2DA798E3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87EC-A403-4E2B-8770-5940022E677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3864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1516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6212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3864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1516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09FB-D4B1-4219-BC21-FB309FC69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38C66-6F53-4A67-B936-3BD371520C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D6D48-B110-4325-81B6-E282E9E1DF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E0A31-3C4F-4987-BE2A-8774C28395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19991-0155-41F4-BCD3-D87EAA68FD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319DE-513E-46E8-8022-DABDD17E65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2AFF4-9C58-4CFE-A0CF-E8E4926D46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af3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7fd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7fd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34E2-5A02-45C2-B7C7-6B9C9DC15D7D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7"/>
          <p:cNvGrpSpPr/>
          <p:nvPr/>
        </p:nvGrpSpPr>
        <p:grpSpPr>
          <a:xfrm>
            <a:off x="380880" y="6400800"/>
            <a:ext cx="685440" cy="228600"/>
            <a:chOff x="380880" y="6400800"/>
            <a:chExt cx="685440" cy="228600"/>
          </a:xfrm>
        </p:grpSpPr>
        <p:sp>
          <p:nvSpPr>
            <p:cNvPr id="40" name="Freeform 8"/>
            <p:cNvSpPr/>
            <p:nvPr/>
          </p:nvSpPr>
          <p:spPr>
            <a:xfrm>
              <a:off x="844200" y="6400800"/>
              <a:ext cx="22212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  <p:sp>
          <p:nvSpPr>
            <p:cNvPr id="41" name="Freeform 9"/>
            <p:cNvSpPr/>
            <p:nvPr/>
          </p:nvSpPr>
          <p:spPr>
            <a:xfrm>
              <a:off x="635040" y="6400800"/>
              <a:ext cx="21636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  <p:sp>
          <p:nvSpPr>
            <p:cNvPr id="42" name="Freeform 10"/>
            <p:cNvSpPr/>
            <p:nvPr/>
          </p:nvSpPr>
          <p:spPr>
            <a:xfrm>
              <a:off x="380880" y="6400800"/>
              <a:ext cx="24084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</p:grpSp>
      <p:sp>
        <p:nvSpPr>
          <p:cNvPr id="43" name="Text Box 11"/>
          <p:cNvSpPr/>
          <p:nvPr/>
        </p:nvSpPr>
        <p:spPr>
          <a:xfrm>
            <a:off x="1295280" y="632448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Zachodniopomorski Oddział Wojewódzki</a:t>
            </a:r>
            <a:endParaRPr b="1" lang="en-US" sz="1800" spc="-1" strike="noStrike">
              <a:solidFill>
                <a:srgbClr val="ffaf3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af3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7fd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7fd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F569-7553-46C5-8EB0-35A9C9E227D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7"/>
          <p:cNvGrpSpPr/>
          <p:nvPr/>
        </p:nvGrpSpPr>
        <p:grpSpPr>
          <a:xfrm>
            <a:off x="380880" y="6400800"/>
            <a:ext cx="685440" cy="228600"/>
            <a:chOff x="380880" y="6400800"/>
            <a:chExt cx="685440" cy="228600"/>
          </a:xfrm>
        </p:grpSpPr>
        <p:sp>
          <p:nvSpPr>
            <p:cNvPr id="84" name="Freeform 8"/>
            <p:cNvSpPr/>
            <p:nvPr/>
          </p:nvSpPr>
          <p:spPr>
            <a:xfrm>
              <a:off x="844200" y="6400800"/>
              <a:ext cx="22212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  <p:sp>
          <p:nvSpPr>
            <p:cNvPr id="85" name="Freeform 9"/>
            <p:cNvSpPr/>
            <p:nvPr/>
          </p:nvSpPr>
          <p:spPr>
            <a:xfrm>
              <a:off x="635040" y="6400800"/>
              <a:ext cx="21636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  <p:sp>
          <p:nvSpPr>
            <p:cNvPr id="86" name="Freeform 10"/>
            <p:cNvSpPr/>
            <p:nvPr/>
          </p:nvSpPr>
          <p:spPr>
            <a:xfrm>
              <a:off x="380880" y="6400800"/>
              <a:ext cx="24084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</p:grpSp>
      <p:sp>
        <p:nvSpPr>
          <p:cNvPr id="87" name="Text Box 11"/>
          <p:cNvSpPr/>
          <p:nvPr/>
        </p:nvSpPr>
        <p:spPr>
          <a:xfrm>
            <a:off x="1295280" y="632448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Zachodniopomorski Oddział Wojewódzki</a:t>
            </a:r>
            <a:endParaRPr b="1" lang="en-US" sz="1800" spc="-1" strike="noStrike">
              <a:solidFill>
                <a:srgbClr val="ffaf39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af3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7fd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7fd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B039-10F4-4C32-9A6D-71E7F8CE837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ymbol zastępczy numeru slajdu 3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A839-84F9-407A-A3C8-6CE6C626B453}" type="slidenum">
              <a:rPr b="0" lang="pl-PL" sz="1400" spc="-1" strike="noStrike">
                <a:solidFill>
                  <a:srgbClr val="ffaf39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af39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792468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af39"/>
                </a:solidFill>
                <a:latin typeface="Times New Roman"/>
              </a:rPr>
              <a:t>Personalne listy pacjentów oczekujących </a:t>
            </a:r>
            <a:br>
              <a:rPr sz="3200"/>
            </a:br>
            <a:r>
              <a:rPr b="1" lang="pl-PL" sz="3200" spc="-1" strike="noStrike">
                <a:solidFill>
                  <a:srgbClr val="ffaf39"/>
                </a:solidFill>
                <a:latin typeface="Times New Roman"/>
              </a:rPr>
              <a:t>na wybrane świadczenia opieki zdrowotnej    </a:t>
            </a:r>
            <a:endParaRPr b="1" lang="en-US" sz="32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434340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af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Angelika Milkiewicz-Ławicka </a:t>
            </a:r>
            <a:endParaRPr b="1" lang="en-US" sz="2000" spc="-1" strike="noStrike">
              <a:solidFill>
                <a:srgbClr val="ffaf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Naczelnik Wydziału Spraw Świadczeniobiorców</a:t>
            </a:r>
            <a:endParaRPr b="1" lang="en-US" sz="2000" spc="-1" strike="noStrike">
              <a:solidFill>
                <a:srgbClr val="ffaf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Zachodniopomorski Oddział Wojewódzki  NFZ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Szczecin, 18 września 2009</a:t>
            </a:r>
            <a:endParaRPr b="1" lang="en-US" sz="2000" spc="-1" strike="noStrike">
              <a:solidFill>
                <a:srgbClr val="ffaf39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087560" y="3684600"/>
            <a:ext cx="71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af39"/>
                </a:solidFill>
                <a:latin typeface="Times New Roman"/>
              </a:rPr>
              <a:t>Seminarium z udziałem Federacji Pacjentów Polskich</a:t>
            </a:r>
            <a:endParaRPr b="1" lang="en-US" sz="2400" spc="-1" strike="noStrike">
              <a:solidFill>
                <a:srgbClr val="ffaf3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Cel prowadzenia personalnych list pacjentów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868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Cel głów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ówny, niedyskryminujący i przejrzysty dostęp do świadcze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Cele szczegóło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monitorowanie czasu oczekiwania na świadczeni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a dostępności do lecz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zetelna informacja dla pacjentó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ciwdziałanie korupc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kreślania zapotrzebowania na świadczenia zdrowot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owadzenie listy jest obowiązkiem ustawowym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af39"/>
                </a:solidFill>
                <a:latin typeface="Arial"/>
              </a:rPr>
              <a:t>Zasady zapisywania na listę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85880" y="1371600"/>
            <a:ext cx="761976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Udzielanie świadczeń według kolejności zgłoszen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2. Wpis na listę oczekujących wg. kategorii medycznej, od  której zależy termin realizacji świadczen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85480">
              <a:lnSpc>
                <a:spcPct val="100000"/>
              </a:lnSpc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ypadek pilny – ze względu na dynamikę procesu chorobowego i możliwość szybkiego pogorszenia stanu zdrowia lub znaczącego zmniejszenia szans na powrót do zdrow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85480">
              <a:lnSpc>
                <a:spcPct val="100000"/>
              </a:lnSpc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ypadek stabiln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3. Nagłe pogorszenie stanu zdrowia - prawo do zmian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terminu lecze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4. Prowadzenie wpisów - na bieżąco, w dniu zgłoszenia do świadczeniodaw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Przekazywanie do NFZ personalnych list pacjentów z dokładnością do numeru PESEL </a:t>
            </a: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7720" y="16765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Od 1 kwietnia 2008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na endoprotezoplastykę stawu biodrowego i kolanowe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wszczepianie implantów kręgosłu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Od 1 stycznia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usunięcia zać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angioplasty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ymbol zastępczy numeru slajdu 3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DDFB-2F3C-401F-B6AD-3C5A72CB29C6}" type="slidenum">
              <a:rPr b="0" lang="pl-PL" sz="1400" spc="-1" strike="noStrike">
                <a:solidFill>
                  <a:srgbClr val="ffaf39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af3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pl-PL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Przypadki </a:t>
            </a:r>
            <a:r>
              <a:rPr b="1" lang="pl-PL" sz="3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wykreślone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 z listy oczekujących w efekcie  weryfikacji prowadzonej od kwietnia 2008 -  do czerwca 2009</a:t>
            </a: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Object 5"/>
          <p:cNvGraphicFramePr/>
          <p:nvPr/>
        </p:nvGraphicFramePr>
        <p:xfrm>
          <a:off x="838080" y="2057400"/>
          <a:ext cx="7283520" cy="33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57400"/>
                    <a:ext cx="728352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pl-PL" sz="3800" spc="-1" strike="noStrike">
                <a:solidFill>
                  <a:srgbClr val="ffaf39"/>
                </a:solidFill>
                <a:latin typeface="Times New Roman"/>
              </a:rPr>
              <a:t>Efekt weryfikacji personalnych list</a:t>
            </a:r>
            <a:br>
              <a:rPr sz="3800"/>
            </a:br>
            <a:endParaRPr b="1" lang="en-US" sz="38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Weryfikacja pozwoliła </a:t>
            </a:r>
            <a:r>
              <a:rPr b="1" lang="pl-PL" sz="24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usunąć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z list oczekujących na endoprotezoplastykę 1.194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PESELE powtarzające się więcej niż dwa razy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Weryfikacja pokazała, że średni wykazywany czas oczekiwania wynoszący 1.089 dni jest w rzeczywistości prawie trzy razy krótszy i </a:t>
            </a:r>
            <a:r>
              <a:rPr b="1" lang="pl-PL" sz="24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wynosi  329 dni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Fundusz nie finansuje planowych zabiegów endoprotezoplastyki, które wykonano z pominięciem list oczekujący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pl-PL" sz="3800" spc="-1" strike="noStrike">
                <a:solidFill>
                  <a:srgbClr val="ffaf39"/>
                </a:solidFill>
                <a:latin typeface="Times New Roman"/>
              </a:rPr>
              <a:t>Obecny czas oczekiwania na endoprotezę </a:t>
            </a:r>
            <a:br>
              <a:rPr sz="3800"/>
            </a:br>
            <a:endParaRPr b="1" lang="en-US" sz="38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tawu biodroweg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6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o 600 dn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ne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105 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bilne- 351 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tawu kolanowe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4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o 700 dn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lne- 100 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bilne – 288 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Korzyści z personalizacji list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Rzetelna i wiarygodna informacja o udzielanych świadczeniach zarówno dla pacjenta, jak i dla NF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Dane rzeczywiste, a nie orientacyj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Realne skrócenie czasu oczekiwania na wykonanie świadczenia poprzez możliwość wyboru świadczeniodaw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Dzięki identyfikacji pacjenta – realne skrócenie list oczekujących (pacjent oczekujący do jednego, a nie do kilku świadczeniodawców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9T07:43:08Z</dcterms:created>
  <dc:creator>MZydorowicz Biuro Dyrektora</dc:creator>
  <dc:description/>
  <dc:language>en-US</dc:language>
  <cp:lastModifiedBy>MKoszur</cp:lastModifiedBy>
  <cp:lastPrinted>2005-05-18T05:49:40Z</cp:lastPrinted>
  <dcterms:modified xsi:type="dcterms:W3CDTF">2009-09-18T13:26:13Z</dcterms:modified>
  <cp:revision>680</cp:revision>
  <dc:subject/>
  <dc:title>Prezentacja programu PowerPoint</dc:title>
</cp:coreProperties>
</file>