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1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ftr" idx="1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 type="sldNum" idx="1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9998-6A3F-4B57-81ED-D4F820A5AC1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65D1-DB53-4B8C-88E2-756690A306F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EC18-C5F5-4A69-AD47-7B626200EF9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14AE-994D-45CF-90C9-ED485F9E2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1A69-71DA-4307-A168-128CDBF1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FDF0-650F-4159-A626-10ECB1729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5A0A-D17A-4151-8AFA-53D741B75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9854-8DFC-49AF-B764-88B2EB37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9F0AA6-798A-4D4C-92EB-16BADB831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817D36-8B76-4860-842A-6D5A813D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517E15-9594-4668-A8E1-FA7BC467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DFC2CF-3F19-43A8-B2E2-1D9EBF89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E9A49B-A6C6-475D-9F57-CE4D74BA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C5C3-E50D-408E-BC0D-F7A0CC36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A1E52B-46B1-4B7C-B29A-CBCBBAC5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C17C9C-FCF9-4CFA-8876-24CBD444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C5AC43-2FBD-477D-B8B7-A382B8B3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26EDA7-9CA9-4640-BA1D-5436BA2B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576A15-B43A-47F9-A9E9-817B1945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1F8577-A698-4D7D-9E2E-B46BED901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CFD456-BA1A-4BC3-8E1B-9AD13159D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66A40F-3613-497B-92AA-D6B21570B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BBC358-367C-4251-99F7-34C7BC07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7AF096-F2D7-46A5-AE44-8AF355FF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12D0-1422-4930-A865-028D1B88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D9F170-2650-4DA1-B86B-D3774083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71F5A1-87BF-45F5-ABCA-7CDD5A4E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59419C-0A3C-4F80-A7C1-76711113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6786CC-E2EB-4A4F-B8E1-9F7FBC92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399364-C0E2-4836-BC85-6432E0BE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6D953C-B3EB-416F-9F18-B0E47617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F6ABA4-2858-4C40-9241-8EDD6F3F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2A39A1-32D5-4191-BF39-7D0B24D3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FDA39D-9F73-43E3-B1D7-B75B8B7B9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62C683-CD1C-46C7-A393-18F79FF4C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0668-AC8F-43EE-B37A-B778E439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6C50BA-6C27-4F35-BE0E-D13AC7A9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82713C-CEFA-4853-BF24-DF2EE202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32BDC3-5A16-47C6-8079-C5DA079D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27C283-59C6-41EC-B1C0-67888A12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BFFFB4-004F-480D-9949-A7E25741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37A566-2963-47B4-856C-CBD13045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04754C-BBF0-4020-BD95-A11374CC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B6483B-1362-439F-8456-6228B2AE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46F82F-74B0-45FE-9DA0-5CFC0CC5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784806-1CA6-4EE5-BC92-552E628B6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D2F9-8A8F-451F-B103-D9E2A301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F784F1-F2B7-4336-B752-93DD9E176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E222-7C85-47DA-AFBA-1D07B716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6F56-5F9D-410F-B1AE-4412169E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5473-967C-4321-B268-8CD94480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9003-8451-484C-AFFE-3D54A2B0B983}" type="slidenum"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7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8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219F-59F2-4CDF-8F59-740A10D209F7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8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9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0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A6E5-A4C8-4A4C-BE9C-44DA79EA5AF5}" type="slidenum"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67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69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73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1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2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1760-5C70-4AD4-9475-2CD2DF50970E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Listy oczekujących na świadczenia opieki zdrowotne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4" descr="nfz_logo_A_kolor"/>
          <p:cNvPicPr/>
          <p:nvPr/>
        </p:nvPicPr>
        <p:blipFill>
          <a:blip r:embed="rId1"/>
          <a:stretch/>
        </p:blipFill>
        <p:spPr>
          <a:xfrm>
            <a:off x="2843280" y="4076640"/>
            <a:ext cx="3913200" cy="14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737856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Zasady prowadzenia list oczekujących spersonalizowanych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71600" y="1267920"/>
            <a:ext cx="6858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lanowany termin udzielenia świadczenia oznaczany jest z dokładnością do dnia, jeżeli przekracza on 6 miesięcy licząc od daty wpisu na listę oczekujących dopuszczalne jest wskazanie terminu z dokładnością do tygodnia (terminem wskazanym jest pierwszy dzień tygodnia – poniedziałek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odatkowe wolne terminy, które powstaną niezależnie od przyczyny należy przeznaczyć na przyspieszenie terminów realizacji świadczeń dla pacjentów czekających najdłużej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wiadczeniodawca wyznacza osobę odpowiedzialną za systematyczne i terminowe przekazywanie do oddziału wojewódzkiego NFZ za pośrednictwem udostępnionej aplikacji danych z zakresu list oczekujących; informację o wyznaczonej osobie wraz z adresem poczty elektronicznej i numerem telefonu, świadczeniodawca przekazuje NFZ w celu ułatwienia kontaktó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orzyści personalizacji li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ane rzeczywiste, a nie orientacyj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zetelna i wiarygodna informacja o udzielanych świadczeniach zarówno dla pacjenta, jak i dla NF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alne skrócenie czasu oczekiwania na wykonanie świadczenia poprzez możliwość wyboru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zięki identyfikacji pacjenta – realne skrócenie list oczekujących (pacjent oczekujący do jednego, a nie kilku świadczeniodawców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ciwdziałanie korupc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Wszczepianie endoprotez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 2009 roku 291 świadczeniodawców z terenu całego kraju, dokonywało wszczepów endoprotez stawowych w tym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 świadczeniodawców z terenu województwa lubuskiego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okresie styczeń-sierpień 2009r. W naszym województwie całym wykonano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800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cedur wszczepienia endoprotez stawow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edług stanu na koniec czerwca 2009r.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średni przewidywany czas oczekiwani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w dniach) wynos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endoprotezoplastyka stawu biodrowego: średnia krajowa-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503 dn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średnia województwa lubuskiego-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686 dn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przypadki stabil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endoprotezoplastyka stawu kolanowego: średnia krajowa-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518 dn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średnia województwa lubuskiego-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640 dn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przypadki stabil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Zajmujemy 12 miejsce w kraj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Zabiegi w zakresie soczewki (zaćma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 2009 roku 206 świadczeniodawców z terenu całego kraju, dokonywało zabiegów w zakresie soczewki (zaćma) w tym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 świadczeniodawców z terenu województwa lubuskiego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okresie styczeń-sierpień 2009r. W naszym województwie całym wykonano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 352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sunięcia zać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edług stanu na koniec czerwca 2009r.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średni przewidywany czas oczekiwani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w dniach) na zabieg wynosi: średnia krajowa-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423 dn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średnia dla województwa lubuskiego-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59 dni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przypadki stabilne).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Zajmujemy 3 miejsce w kraj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ziękuję za uwag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4" descr="nfz_logo_A_kolor"/>
          <p:cNvPicPr/>
          <p:nvPr/>
        </p:nvPicPr>
        <p:blipFill>
          <a:blip r:embed="rId1"/>
          <a:stretch/>
        </p:blipFill>
        <p:spPr>
          <a:xfrm>
            <a:off x="2843280" y="4076640"/>
            <a:ext cx="3913200" cy="14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ele prowadzenia li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el głów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337"/>
              </a:spcBef>
              <a:spcAft>
                <a:spcPts val="90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pewnienie równego traktowania wszystkich pacjentów poprzez równy, niedyskryminujący i przejrzysty dostęp do świadczeń opieki zdrowotnej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ele szczegół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nitorowanie okresu oczekiwania na udzielenie świadczenia opieki zdrowotn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prawa dostępności do świadczeń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sta, rzetelna i dokładna informacja dla pacjent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ciwdziałanie korupc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012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zyskanie informacji dla określania zapotrzebowania na świadczenia zdrowot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owadzenie listy jest obowiązkiem ustawowy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Times New Roman"/>
              </a:rPr>
              <a:t>Podstawy prawne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Ustawa o świadczeniach opieki zdrowotnej finansowanych ze środków publicznych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 Ministra Zdrowia z dnia 26 września 2005 r. w sprawie kryteriów medycznych, jakimi powinni kierować się świadczeniodawcy, umieszczając świadczeniobiorców na listach oczekujących na udzielenie świadczenia opieki zdrowotnej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 Ministra Zdrowia z dnia 27 czerwca 2006 r. w sprawie zakresu niezbędnych informacji gromadzonych przez świadczeniodawców, szczegółowego sposobu rejestrowania tych informacji oraz ich przekazywania podmiotom zobowiązanym do finansowania świadczeń ze środków publicznych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 Ministra Zdrowia z dnia 27 grudnia 2007 r. w sprawie sposobu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i kryteriów ustalania dopuszczalnego czasu oczekiwania na wybrane świadczenia opieki zdrowotnej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 Ministra Zdrowia z dnia 6 maja 2008 r. w sprawie ogólnych warunków umów o udzielanie świadczeń opieki zdrowotnej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m Ministra Zdrowia z dnia 20 czerwca 2008 r. w sprawie zakresu niezbędnych informacji gromadzonych przez świadczeniodawców, szczegółowego sposobu rejestrowania tych informacji oraz ich przekazywania podmiotom zobowiązanym do finansowania świadczeń ze środków publiczny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Zarządzenie Nr 93/2008/DSOZ Prezesa Narodowego Funduszu Zdrowia z dnia 22 października 2008 r. w sprawie określenia warunków zawierania i realizacji umów w rodzaju: leczenie szpitalne ­– załącznik nr 12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tóre świadczenia? </a:t>
            </a:r>
            <a:r>
              <a:rPr b="0" lang="pl-PL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34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sty oczekujących prowadzone są między innymi w rama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mbulatoryjnej opieki specjalistyczn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szpitaln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ieki psychiatrycznej i leczenia uzależnień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habilitacji lecznicz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ieki długoterminow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stomatologiczn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gromadzone dane o liczbie oczekujących i średnim czasie oczekiwania na świadczenia są przekazywane do NFZ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Zasady zapisywania na listę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Świadczenia zdrowotne powinny być udzielane według kolejności zgłosze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acjent, któremu nie można udzielić świadczeń w chwili przyjęcia powinien zostać wpisany na listę oczekujących w jednej z dwóch kategorii medycznych, od której zależy termin realizacji świadczen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padek pi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pacjent, który wymaga pilnego udzielenia świadczenia ze względu na dynamikę procesu chorobowego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możliwość szybkiego pogorszenia stanu zdrowia lub znaczącego zmniejszenia szans na powrót do zdrow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padek stabi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pacjent, który nie znajduje się w stanie nagłym i nie został zakwalifikowany jako przypadek pil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nagłego pogorszenia stanu zdrowia pacjent ma prawo do zmiany terminu lecz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wadzenie wpisów na listy oczekujących powinno odbywać się na bieżąco – pacjent powinien zostać zapisany na listę oczekujących w dniu zgłoszenia do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Zmiany w sprawozdawczości z list oczekujących od stycznia 2010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godnie z § 12 rozporządzeniem Ministra Zdrowia z dnia 20 czerwca 2008 r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sprawie zakresu niezbędnych informacji gromadzonych przez świadczeniodawców, szczegółowego sposobu rejestrowania tych informacj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raz ich przekazywania podmiotom zobowiązanym do finansowania świadczeń ze środków publicznych (Dz. U. Nr 123, poz. 801)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tylko do 31.12.2009 r.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przekazywane są  do LOW NFZ informacje o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średnim przewidywanym czasie oczekiwania do komórek organizacyjny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liczbie oczekujących i średnich czasach oczekiwania (przewidywanym i rzeczywistym) na wybrane procedury medyczne oraz leczenia w ramach terapeutycznych programów zdrowotny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edług nowych, uproszczonych zasad świadczeniodawca sprawozdawać będzie tylko informację o liczbie oczekujących oraz średnim rzeczywistym czasie oczekiwania w poszczególnych komórkach organizacyjnych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ontrol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ontrola list oczekujących na leczenie zaćm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– IV kwartał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kresowy  brak przekazywania komunikatu (ok. 25% świadczeniodawców)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ilku świadczeniodawców w ogóle nie prowadziło list i nie przekazywało do Funduszu informacji o kolejkac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pełne dane (ok. 30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zekazywane informacje sprzeczne z rzeczywistymi danymi znajdującymi się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dokumentacji (ok. 40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rak aktualizacji lis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czas oczekiwania znacząco krótszy, niż wynikałoby to z informacji przekazanej do Fundusz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spójne dane – czas oczekiwania w kategorii pilny dłuższy niż stabil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przestrzeganie kolejności udzielania świadcze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ykonywanie zabiegu, pomimo braku wpisu na liści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zasadne przekwalifikowanie pacjenta z kategorii „stabilny” do kategorii „pilny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Listy spersonalizowan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możliwiają zbieranie danych, które pozwalają jednoznaczną identyfikację pacjenta (poprzez numer PESEL) oczekującego na wybrane procedury medycz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FZ zbiera dane o oczekujących na wybrane, drogie specjalistyczne zabiegi, na które czeka się najdłuże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zczepianie endoprotez staw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d 2009 roku zbierane są dane spersonalizowane d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sunięcia zaćm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gioplasty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wa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kazywane do Funduszu dane w pełni oddają rzeczywistoś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zwalają na kompleksową analizę procedur wykonywa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 konkretnego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737856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Zasady prowadzenia list oczekujących spersonalizowanych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1267920"/>
            <a:ext cx="6858000" cy="46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wiadczenia opieki zdrowotnej są udzielane według kolejności zgłoszenia, z uwzględnieniem stanu zdrowia pacjent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wiadczeniodawca wpisuje świadczeniobiorcę na listę oczekujących po stwierdzeniu, że posiada wymagane skierowanie na świadczenie danego rodzaju; skierowania z brakami, pozbawione istotnych danych, nie mogą być przyczyną nie wpisania na listę oczekujących – należy wystąpić do pacjenta o uzupełnienie danych lub uzyskać od lekarza kierująceg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mieszczenie pacjenta na liście oczekujących powinno nastąpić w dniu zgłoszenia się do świadczeniodawcy, należy pisemnie poinformować pacjenta o terminie udzielenia świadczenia (może to być adnotacja na skierowaniu potwierdzona pieczęcią świadczeniodawcy i podpisem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10:52:47Z</dcterms:created>
  <dc:creator>NFZ</dc:creator>
  <dc:description/>
  <cp:keywords/>
  <dc:language>en-US</dc:language>
  <cp:lastModifiedBy>prezentacja</cp:lastModifiedBy>
  <dcterms:modified xsi:type="dcterms:W3CDTF">2009-09-15T11:01:06Z</dcterms:modified>
  <cp:revision>75</cp:revision>
  <dc:subject/>
  <dc:title>Listy oczekujących na świadczenia opieki zdrowotnej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5</vt:lpwstr>
  </property>
</Properties>
</file>