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FC06-AC7C-49E9-9A7E-22CA2C845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2601-CBD2-413B-8D45-1382185DE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1C2A-D59F-4B2C-9E1A-43800D453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B6D3-B173-4138-A24C-3EA8C2451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447B-7F6B-4531-881F-3F764D76FC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A53A5-334C-4675-BB15-93344635E4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CED6A-9930-49A7-8CF5-890ED71E6C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F06E5-B10F-41A8-889B-A933795510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758D-36B7-4693-9DB3-C21788693E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2F209-7F2A-411B-942E-4AD10B4A8F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A8028-1452-437E-BCB5-CD4A590FC7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0A97-6AAC-4A2F-BC54-8287D2EE4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7CC82-C7F5-455F-A197-CAFA594498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90BC5-B4FF-45EB-A0FC-99AEE0F658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E1876-B3B7-4E56-A5D8-66411B377E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42042-C77C-47E1-B627-F21380FBBD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F1AC-72A3-4244-B4ED-D5B498F780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031-A0C7-4B4A-852E-490050157F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8FD-91B5-4E2A-9E21-69073F8F3D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A778-BEE1-466A-8793-4AD51F65A1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EF1-E11B-42D6-8F7D-5ECCB49AFC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8C4-7491-4641-AA29-DE0C008B42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E8AF-9ED8-441F-856F-813ADD525A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0208-5A92-4EEE-A1E6-CF760ED74D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9D6-E798-45C2-AA91-7D76C1B757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E4B-7C9B-4688-859D-8CA355DAAC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F5D-6FE0-4E03-8D72-449370BB17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CED9-47D1-4E70-AF20-814FBCA4A8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C5B-CC16-443D-8585-F57CB07C71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DE85-7309-4609-84EE-63D122A1C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CF87-6AFF-41CA-AF2D-6E0E48C97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B897-5231-4390-A04F-B3757086D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B653-B44C-4BEA-A441-5240179AF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E4CE-9072-49B1-B9F8-BA2B422F7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DFDF6-422A-4C98-B487-8119ED0E9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D919-CE52-42C2-940E-606D1B62F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0A0E-5B0F-4BB5-B6EC-3CD8E9B7D1E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40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1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2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43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E862-BD8D-41C2-B200-3FD2F907BAC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84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87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EF00-027B-4CCD-8040-5BDC3999C82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D581-6C72-4ABB-936A-74F8282016A9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Personalne listy pacjentów oczekujących </a:t>
            </a:r>
            <a:br>
              <a:rPr sz="3200"/>
            </a:b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na wybrane świadczenia opieki zdrowotnej    </a:t>
            </a:r>
            <a:endParaRPr b="1" lang="en-US" sz="32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43434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Angelika Milkiewicz-Ławicka 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Naczelnik Wydziału Spraw Świadczeniobiorców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Zachodniopomorski Oddział Wojewódzki  NFZ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Szczecin, 18 września 2009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087560" y="3684600"/>
            <a:ext cx="71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af39"/>
                </a:solidFill>
                <a:latin typeface="Times New Roman"/>
              </a:rPr>
              <a:t>Seminarium z udziałem Federacji Pacjentów Polskich</a:t>
            </a:r>
            <a:endParaRPr b="1" lang="en-US" sz="2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Cel prowadzenia personalnych list pacjentów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868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 głów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ówny, niedyskryminujący i przejrzysty dostęp do świadcze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e szczegóło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monitorowanie czasu oczekiwania na świadczeni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a dostępności do lecz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zetelna informacja dla pacjent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ciwdziałanie korupc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kreślania zapotrzebowania na świadczenia zdrowot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owadzenie listy jest obowiązkiem ustawowy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Arial"/>
              </a:rPr>
              <a:t>Zasady zapisywania na listę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5880" y="1371600"/>
            <a:ext cx="76197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dzielanie świadczeń według kolejności zgłoszen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2. Wpis na listę oczekujących wg. kategorii medycznej, od  której zależy termin realizacji świadczen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pilny – ze względu na dynamikę procesu chorobowego i możliwość szybkiego pogorszenia stanu zdrowia lub znaczącego zmniejszenia szans na powrót do zdrow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stabil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3. Nagłe pogorszenie stanu zdrowia - prawo do zmia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terminu lecze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4. Prowadzenie wpisów - na bieżąco, w dniu zgłoszenia do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Przekazywanie do NFZ personalnych list pacjentów z dokładnością do numeru PESEL 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6765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kwietnia 2008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na endoprotezoplastykę stawu biodrowego i kolanow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wszczepianie implantów kręgosłu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stycznia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sunięcia zać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angioplasty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66FA-953E-4834-9755-0DDE9C34FC46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Przypadki </a:t>
            </a:r>
            <a:r>
              <a:rPr b="1" lang="pl-PL" sz="3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wykreślone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z listy oczekujących w efekcie  weryfikacji prowadzonej od kwietnia 2008 -  do czerwca 2009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838080" y="2057400"/>
          <a:ext cx="7283520" cy="33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2835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Efekt weryfikacji personalnych list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zwoliła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usunąć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z list oczekujących na endoprotezoplastykę 1.194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PESELE powtarzające się więcej niż dwa razy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kazała, że średni wykazywany czas oczekiwania wynoszący 1.089 dni jest w rzeczywistości prawie trzy razy krótszy i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wynosi  329 dni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Fundusz nie finansuje planowych zabiegów endoprotezoplastyki, które wykonano z pominięciem list oczekując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Obecny czas oczekiwania na endoprotezę 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biodrowe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6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6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ne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105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- 351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kolanow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4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7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lne- 100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 – 288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Korzyści z personalizacji lis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zetelna i wiarygodna informacja o udzielanych świadczeniach zarówno dla pacjenta, jak i dla NF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ane rzeczywiste, a nie orientacyj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ealne skrócenie czasu oczekiwania na wykonanie świadczenia poprzez możliwość wyboru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zięki identyfikacji pacjenta – realne skrócenie list oczekujących (pacjent oczekujący do jednego, a nie do kilku świadczeniodawców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7:43:08Z</dcterms:created>
  <dc:creator>MZydorowicz Biuro Dyrektora</dc:creator>
  <dc:description/>
  <dc:language>en-US</dc:language>
  <cp:lastModifiedBy>MKoszur</cp:lastModifiedBy>
  <cp:lastPrinted>2005-05-18T05:49:40Z</cp:lastPrinted>
  <dcterms:modified xsi:type="dcterms:W3CDTF">2009-09-18T13:26:13Z</dcterms:modified>
  <cp:revision>680</cp:revision>
  <dc:subject/>
  <dc:title>Prezentacja programu PowerPoint</dc:title>
</cp:coreProperties>
</file>