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EE1-3876-4885-81D2-6AFFB5EE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DCD-755C-4C37-85CA-880FEDED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51C-CF9C-4D39-8120-AD8652AC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79A-E753-47CF-B4EC-CABD0977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D6EC-A401-4F79-AC55-77CED5F3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4AF3-1CA0-4EB9-A34E-E97D56C0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4EFC-A2F0-4F05-B72C-1340D01C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BCE7-7336-44AF-95FB-0B7D49F4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1C48-E874-4FA1-B0EF-825B2F5A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82EA-B0D6-44BC-8F5C-66B201BA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7CC4-0704-4ECF-9E16-DC1C22E6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CB6-D338-4BAD-A575-DF7D378B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42F6-E712-466B-8128-2E045B2A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D096-A16E-473C-810A-9A7F90CE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78C8-E533-44FD-B962-31973E41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153A-9F2E-4B0C-82A6-C09985FF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58C5-F9CB-4101-B6E1-0DA24571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465-18C9-42BC-A46C-13EE00B2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D4885-BB63-4C47-A2D5-AC3165A3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FBEC36-4269-4D2A-81D6-CEE09DF7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6CFED-3FD5-4693-9A00-CA417A21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353-5803-4BF5-A911-104EF8D3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87118A-1C6B-4B63-9BEF-50C46200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91319-F534-4581-A8C5-04F9B3B1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D43D1F-B890-427E-825B-68325881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A863D-0C3E-4ADB-925F-A839B53C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BAC91-F0F0-485F-8202-91BB711C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9E542A-EEF6-4C7E-B1B7-6CE7BC0D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B8145-B4E5-4EF1-8476-8D40492D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CFCF9C-84C2-446B-9E25-B686C274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2EEED4-31D2-4D2E-8EE8-FD20B46A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D52E9B-3655-4B65-860B-46F56638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16C-867A-4355-A904-9FB47F7D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CDCB1B-B800-48CB-BA05-77DC1240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C6A994-FBA9-4905-A1D5-FF5AC8BB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BE04FC-7F67-4AE3-BA94-A1E48FDE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757F14-7D8C-426D-8A75-5215DE63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F490BB-C045-4488-BA5F-55044616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7ED445-293A-470F-B833-7EE02337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00FFBF-4247-455F-B8E2-4175F23A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FB3CD9-E901-422E-9579-A78A1488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7E6E57-2F18-466F-B6D4-D355936A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31A017-0D5B-4DB9-8F8D-45A33D13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E04-8DBE-4775-AA80-3129696D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08997A-F69E-4E9A-A6C6-802B1D42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C83-C75E-4AF0-9ED3-8D2AAEA8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9CB-C17F-4B78-87DB-7BFB0B2F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DC8-74DB-4798-9814-6551F3E2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674C-D27B-41C9-8478-0A534DC91F33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CB88-D890-4209-99C8-A19A87FCC668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2516-D965-4A92-8358-9E9EE97C4C75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FFA6-432F-41A9-9EC1-1B893FF1715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8 rok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91 świadczeniodawc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terenu całego kraju, dokonywało wszczepów endoprotez stawowych oraz implantów kręgosłupa, z czeg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77 świadczeniodawc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ło endoprotezy staw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2 30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3 placówki to zakłady niepubliczne, które dokona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11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większości przypadków procedury wszczepiania endoprotez stawowych realizowane są w oddziałach urazowo-ortopedycznych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311 oddziałów szpitalnych wszczepiających endoprotezy staw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 to oddziały chirurgii ogólnej i 4 oddziały neurochirurg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odział regionaln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000" y="162792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czba świadczeniodawców dokonujących wszczepów endoprotez stawów oraz implantów kręgosłup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2008 rok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4960" y="1982880"/>
            <a:ext cx="5960520" cy="4686120"/>
            <a:chOff x="1704960" y="1982880"/>
            <a:chExt cx="5960520" cy="4686120"/>
          </a:xfrm>
        </p:grpSpPr>
        <p:grpSp>
          <p:nvGrpSpPr>
            <p:cNvPr id="239" name=""/>
            <p:cNvGrpSpPr/>
            <p:nvPr/>
          </p:nvGrpSpPr>
          <p:grpSpPr>
            <a:xfrm>
              <a:off x="1704960" y="1982880"/>
              <a:ext cx="5960520" cy="4636440"/>
              <a:chOff x="1704960" y="1982880"/>
              <a:chExt cx="5960520" cy="4636440"/>
            </a:xfrm>
          </p:grpSpPr>
          <p:sp>
            <p:nvSpPr>
              <p:cNvPr id="240" name=""/>
              <p:cNvSpPr/>
              <p:nvPr/>
            </p:nvSpPr>
            <p:spPr>
              <a:xfrm>
                <a:off x="3428280" y="5030640"/>
                <a:ext cx="1027800" cy="101664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47" y="3"/>
                    </a:move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7"/>
                    </a:lnTo>
                    <a:lnTo>
                      <a:pt x="20" y="57"/>
                    </a:lnTo>
                    <a:lnTo>
                      <a:pt x="20" y="57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6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3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29" y="59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8" y="60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9" y="65"/>
                    </a:lnTo>
                    <a:lnTo>
                      <a:pt x="29" y="64"/>
                    </a:lnTo>
                    <a:lnTo>
                      <a:pt x="30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5" y="70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6" y="72"/>
                    </a:lnTo>
                    <a:lnTo>
                      <a:pt x="37" y="72"/>
                    </a:lnTo>
                    <a:lnTo>
                      <a:pt x="38" y="71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2" y="65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3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3" y="60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4" y="60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7" y="58"/>
                    </a:lnTo>
                    <a:lnTo>
                      <a:pt x="48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50" y="56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4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3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4" y="41"/>
                    </a:lnTo>
                    <a:lnTo>
                      <a:pt x="54" y="42"/>
                    </a:lnTo>
                    <a:lnTo>
                      <a:pt x="55" y="42"/>
                    </a:lnTo>
                    <a:lnTo>
                      <a:pt x="56" y="42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3" y="38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7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9" y="33"/>
                    </a:lnTo>
                    <a:lnTo>
                      <a:pt x="59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6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8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1" y="8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65200" y="4802040"/>
                <a:ext cx="1248120" cy="951840"/>
              </a:xfrm>
              <a:custGeom>
                <a:avLst/>
                <a:gdLst/>
                <a:ahLst/>
                <a:rect l="l" t="t" r="r" b="b"/>
                <a:pathLst>
                  <a:path w="74" h="67">
                    <a:moveTo>
                      <a:pt x="32" y="10"/>
                    </a:moveTo>
                    <a:lnTo>
                      <a:pt x="32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61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1" y="10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9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2"/>
                    </a:lnTo>
                    <a:lnTo>
                      <a:pt x="74" y="22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27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30"/>
                    </a:lnTo>
                    <a:lnTo>
                      <a:pt x="74" y="32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3" y="35"/>
                    </a:lnTo>
                    <a:lnTo>
                      <a:pt x="73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9" y="40"/>
                    </a:lnTo>
                    <a:lnTo>
                      <a:pt x="69" y="41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2" y="47"/>
                    </a:lnTo>
                    <a:lnTo>
                      <a:pt x="62" y="47"/>
                    </a:lnTo>
                    <a:lnTo>
                      <a:pt x="62" y="48"/>
                    </a:lnTo>
                    <a:lnTo>
                      <a:pt x="62" y="48"/>
                    </a:lnTo>
                    <a:lnTo>
                      <a:pt x="61" y="49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59" y="50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7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4"/>
                    </a:lnTo>
                    <a:lnTo>
                      <a:pt x="56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3" y="56"/>
                    </a:lnTo>
                    <a:lnTo>
                      <a:pt x="53" y="55"/>
                    </a:lnTo>
                    <a:lnTo>
                      <a:pt x="53" y="55"/>
                    </a:lnTo>
                    <a:lnTo>
                      <a:pt x="52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5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7" y="66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4"/>
                    </a:lnTo>
                    <a:lnTo>
                      <a:pt x="26" y="65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7"/>
                    </a:lnTo>
                    <a:lnTo>
                      <a:pt x="23" y="56"/>
                    </a:lnTo>
                    <a:lnTo>
                      <a:pt x="23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7" y="41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5320" y="2163960"/>
                <a:ext cx="1989000" cy="1161000"/>
              </a:xfrm>
              <a:custGeom>
                <a:avLst/>
                <a:gdLst/>
                <a:ahLst/>
                <a:rect l="l" t="t" r="r" b="b"/>
                <a:pathLst>
                  <a:path w="118" h="82">
                    <a:moveTo>
                      <a:pt x="12" y="9"/>
                    </a:moveTo>
                    <a:lnTo>
                      <a:pt x="11" y="10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5" y="66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20" y="72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2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29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2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6" y="81"/>
                    </a:lnTo>
                    <a:lnTo>
                      <a:pt x="36" y="81"/>
                    </a:lnTo>
                    <a:lnTo>
                      <a:pt x="36" y="80"/>
                    </a:lnTo>
                    <a:lnTo>
                      <a:pt x="37" y="80"/>
                    </a:lnTo>
                    <a:lnTo>
                      <a:pt x="37" y="80"/>
                    </a:lnTo>
                    <a:lnTo>
                      <a:pt x="38" y="80"/>
                    </a:lnTo>
                    <a:lnTo>
                      <a:pt x="39" y="81"/>
                    </a:lnTo>
                    <a:lnTo>
                      <a:pt x="40" y="81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79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5" y="74"/>
                    </a:lnTo>
                    <a:lnTo>
                      <a:pt x="46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9" y="75"/>
                    </a:lnTo>
                    <a:lnTo>
                      <a:pt x="49" y="75"/>
                    </a:lnTo>
                    <a:lnTo>
                      <a:pt x="49" y="74"/>
                    </a:lnTo>
                    <a:lnTo>
                      <a:pt x="49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3"/>
                    </a:lnTo>
                    <a:lnTo>
                      <a:pt x="51" y="73"/>
                    </a:lnTo>
                    <a:lnTo>
                      <a:pt x="51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5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59" y="69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9"/>
                    </a:lnTo>
                    <a:lnTo>
                      <a:pt x="60" y="69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3" y="65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4" y="66"/>
                    </a:lnTo>
                    <a:lnTo>
                      <a:pt x="64" y="66"/>
                    </a:lnTo>
                    <a:lnTo>
                      <a:pt x="65" y="67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6" y="66"/>
                    </a:lnTo>
                    <a:lnTo>
                      <a:pt x="67" y="65"/>
                    </a:lnTo>
                    <a:lnTo>
                      <a:pt x="67" y="65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9" y="62"/>
                    </a:lnTo>
                    <a:lnTo>
                      <a:pt x="70" y="62"/>
                    </a:lnTo>
                    <a:lnTo>
                      <a:pt x="70" y="61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80" y="57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82" y="56"/>
                    </a:lnTo>
                    <a:lnTo>
                      <a:pt x="83" y="56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6" y="55"/>
                    </a:lnTo>
                    <a:lnTo>
                      <a:pt x="87" y="56"/>
                    </a:lnTo>
                    <a:lnTo>
                      <a:pt x="87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9" y="56"/>
                    </a:lnTo>
                    <a:lnTo>
                      <a:pt x="89" y="56"/>
                    </a:lnTo>
                    <a:lnTo>
                      <a:pt x="90" y="57"/>
                    </a:lnTo>
                    <a:lnTo>
                      <a:pt x="91" y="57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6" y="54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7" y="52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9" y="51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100" y="49"/>
                    </a:lnTo>
                    <a:lnTo>
                      <a:pt x="101" y="49"/>
                    </a:lnTo>
                    <a:lnTo>
                      <a:pt x="101" y="48"/>
                    </a:lnTo>
                    <a:lnTo>
                      <a:pt x="101" y="48"/>
                    </a:lnTo>
                    <a:lnTo>
                      <a:pt x="102" y="48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3"/>
                    </a:lnTo>
                    <a:lnTo>
                      <a:pt x="106" y="43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7" y="42"/>
                    </a:lnTo>
                    <a:lnTo>
                      <a:pt x="107" y="42"/>
                    </a:lnTo>
                    <a:lnTo>
                      <a:pt x="107" y="41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08" y="40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10" y="40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6" y="36"/>
                    </a:lnTo>
                    <a:lnTo>
                      <a:pt x="116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6" y="32"/>
                    </a:lnTo>
                    <a:lnTo>
                      <a:pt x="116" y="31"/>
                    </a:lnTo>
                    <a:lnTo>
                      <a:pt x="116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0"/>
                    </a:lnTo>
                    <a:lnTo>
                      <a:pt x="117" y="30"/>
                    </a:lnTo>
                    <a:lnTo>
                      <a:pt x="118" y="29"/>
                    </a:lnTo>
                    <a:lnTo>
                      <a:pt x="118" y="29"/>
                    </a:lnTo>
                    <a:lnTo>
                      <a:pt x="118" y="28"/>
                    </a:lnTo>
                    <a:lnTo>
                      <a:pt x="117" y="28"/>
                    </a:lnTo>
                    <a:lnTo>
                      <a:pt x="117" y="27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5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5" y="23"/>
                    </a:lnTo>
                    <a:lnTo>
                      <a:pt x="114" y="23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1"/>
                    </a:lnTo>
                    <a:lnTo>
                      <a:pt x="113" y="21"/>
                    </a:lnTo>
                    <a:lnTo>
                      <a:pt x="113" y="20"/>
                    </a:lnTo>
                    <a:lnTo>
                      <a:pt x="113" y="20"/>
                    </a:lnTo>
                    <a:lnTo>
                      <a:pt x="112" y="20"/>
                    </a:lnTo>
                    <a:lnTo>
                      <a:pt x="112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10" y="17"/>
                    </a:lnTo>
                    <a:lnTo>
                      <a:pt x="111" y="17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1" y="15"/>
                    </a:lnTo>
                    <a:lnTo>
                      <a:pt x="111" y="15"/>
                    </a:lnTo>
                    <a:lnTo>
                      <a:pt x="110" y="15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2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9" y="7"/>
                    </a:lnTo>
                    <a:lnTo>
                      <a:pt x="109" y="7"/>
                    </a:lnTo>
                    <a:lnTo>
                      <a:pt x="110" y="6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08" y="1"/>
                    </a:lnTo>
                    <a:lnTo>
                      <a:pt x="108" y="1"/>
                    </a:lnTo>
                    <a:lnTo>
                      <a:pt x="107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3" y="2"/>
                    </a:lnTo>
                    <a:lnTo>
                      <a:pt x="103" y="3"/>
                    </a:lnTo>
                    <a:lnTo>
                      <a:pt x="103" y="3"/>
                    </a:lnTo>
                    <a:lnTo>
                      <a:pt x="102" y="3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8" y="3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2" y="4"/>
                    </a:lnTo>
                    <a:lnTo>
                      <a:pt x="91" y="5"/>
                    </a:lnTo>
                    <a:lnTo>
                      <a:pt x="91" y="5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7" y="5"/>
                    </a:lnTo>
                    <a:lnTo>
                      <a:pt x="87" y="5"/>
                    </a:lnTo>
                    <a:lnTo>
                      <a:pt x="86" y="5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7"/>
                    </a:lnTo>
                    <a:lnTo>
                      <a:pt x="78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69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4" y="8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55760" y="2127240"/>
                <a:ext cx="1418760" cy="1741680"/>
              </a:xfrm>
              <a:custGeom>
                <a:avLst/>
                <a:gdLst/>
                <a:ahLst/>
                <a:rect l="l" t="t" r="r" b="b"/>
                <a:pathLst>
                  <a:path w="84" h="123">
                    <a:moveTo>
                      <a:pt x="36" y="29"/>
                    </a:moveTo>
                    <a:lnTo>
                      <a:pt x="36" y="29"/>
                    </a:lnTo>
                    <a:lnTo>
                      <a:pt x="36" y="30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5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2" y="41"/>
                    </a:lnTo>
                    <a:lnTo>
                      <a:pt x="32" y="42"/>
                    </a:lnTo>
                    <a:lnTo>
                      <a:pt x="32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6" y="44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6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1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9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4" y="68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6" y="68"/>
                    </a:lnTo>
                    <a:lnTo>
                      <a:pt x="6" y="68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6" y="76"/>
                    </a:lnTo>
                    <a:lnTo>
                      <a:pt x="6" y="77"/>
                    </a:lnTo>
                    <a:lnTo>
                      <a:pt x="6" y="77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7" y="80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5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7" y="87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8" y="88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4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7" y="91"/>
                    </a:lnTo>
                    <a:lnTo>
                      <a:pt x="27" y="91"/>
                    </a:lnTo>
                    <a:lnTo>
                      <a:pt x="27" y="92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27" y="92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8" y="96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30" y="97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2" y="96"/>
                    </a:lnTo>
                    <a:lnTo>
                      <a:pt x="32" y="96"/>
                    </a:lnTo>
                    <a:lnTo>
                      <a:pt x="33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7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5" y="103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3" y="107"/>
                    </a:lnTo>
                    <a:lnTo>
                      <a:pt x="34" y="107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9"/>
                    </a:lnTo>
                    <a:lnTo>
                      <a:pt x="35" y="109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2" y="118"/>
                    </a:lnTo>
                    <a:lnTo>
                      <a:pt x="42" y="118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50" y="119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19"/>
                    </a:lnTo>
                    <a:lnTo>
                      <a:pt x="51" y="119"/>
                    </a:lnTo>
                    <a:lnTo>
                      <a:pt x="51" y="120"/>
                    </a:lnTo>
                    <a:lnTo>
                      <a:pt x="51" y="120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2" y="123"/>
                    </a:lnTo>
                    <a:lnTo>
                      <a:pt x="62" y="122"/>
                    </a:lnTo>
                    <a:lnTo>
                      <a:pt x="63" y="119"/>
                    </a:lnTo>
                    <a:lnTo>
                      <a:pt x="63" y="119"/>
                    </a:lnTo>
                    <a:lnTo>
                      <a:pt x="64" y="117"/>
                    </a:lnTo>
                    <a:lnTo>
                      <a:pt x="64" y="116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68" y="107"/>
                    </a:lnTo>
                    <a:lnTo>
                      <a:pt x="69" y="107"/>
                    </a:lnTo>
                    <a:lnTo>
                      <a:pt x="69" y="106"/>
                    </a:lnTo>
                    <a:lnTo>
                      <a:pt x="69" y="106"/>
                    </a:lnTo>
                    <a:lnTo>
                      <a:pt x="70" y="105"/>
                    </a:lnTo>
                    <a:lnTo>
                      <a:pt x="70" y="105"/>
                    </a:lnTo>
                    <a:lnTo>
                      <a:pt x="71" y="105"/>
                    </a:lnTo>
                    <a:lnTo>
                      <a:pt x="71" y="104"/>
                    </a:lnTo>
                    <a:lnTo>
                      <a:pt x="73" y="103"/>
                    </a:lnTo>
                    <a:lnTo>
                      <a:pt x="74" y="102"/>
                    </a:lnTo>
                    <a:lnTo>
                      <a:pt x="75" y="102"/>
                    </a:lnTo>
                    <a:lnTo>
                      <a:pt x="75" y="101"/>
                    </a:lnTo>
                    <a:lnTo>
                      <a:pt x="76" y="101"/>
                    </a:lnTo>
                    <a:lnTo>
                      <a:pt x="77" y="101"/>
                    </a:lnTo>
                    <a:lnTo>
                      <a:pt x="77" y="101"/>
                    </a:lnTo>
                    <a:lnTo>
                      <a:pt x="78" y="101"/>
                    </a:lnTo>
                    <a:lnTo>
                      <a:pt x="78" y="101"/>
                    </a:lnTo>
                    <a:lnTo>
                      <a:pt x="79" y="100"/>
                    </a:lnTo>
                    <a:lnTo>
                      <a:pt x="81" y="97"/>
                    </a:lnTo>
                    <a:lnTo>
                      <a:pt x="82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5"/>
                    </a:lnTo>
                    <a:lnTo>
                      <a:pt x="84" y="94"/>
                    </a:lnTo>
                    <a:lnTo>
                      <a:pt x="83" y="91"/>
                    </a:lnTo>
                    <a:lnTo>
                      <a:pt x="83" y="90"/>
                    </a:lnTo>
                    <a:lnTo>
                      <a:pt x="83" y="88"/>
                    </a:lnTo>
                    <a:lnTo>
                      <a:pt x="82" y="87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5"/>
                    </a:lnTo>
                    <a:lnTo>
                      <a:pt x="82" y="84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2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1" y="79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8" y="73"/>
                    </a:lnTo>
                    <a:lnTo>
                      <a:pt x="78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4" y="61"/>
                    </a:lnTo>
                    <a:lnTo>
                      <a:pt x="73" y="59"/>
                    </a:lnTo>
                    <a:lnTo>
                      <a:pt x="73" y="59"/>
                    </a:lnTo>
                    <a:lnTo>
                      <a:pt x="73" y="58"/>
                    </a:lnTo>
                    <a:lnTo>
                      <a:pt x="72" y="57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4"/>
                    </a:lnTo>
                    <a:lnTo>
                      <a:pt x="70" y="52"/>
                    </a:lnTo>
                    <a:lnTo>
                      <a:pt x="70" y="52"/>
                    </a:lnTo>
                    <a:lnTo>
                      <a:pt x="68" y="49"/>
                    </a:lnTo>
                    <a:lnTo>
                      <a:pt x="68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7" y="46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6" y="43"/>
                    </a:lnTo>
                    <a:lnTo>
                      <a:pt x="65" y="41"/>
                    </a:lnTo>
                    <a:lnTo>
                      <a:pt x="65" y="40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4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1" y="23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6" y="28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57320" y="2964960"/>
                <a:ext cx="2217960" cy="2054880"/>
              </a:xfrm>
              <a:custGeom>
                <a:avLst/>
                <a:gdLst/>
                <a:ahLst/>
                <a:rect l="l" t="t" r="r" b="b"/>
                <a:pathLst>
                  <a:path w="131" h="145">
                    <a:moveTo>
                      <a:pt x="78" y="142"/>
                    </a:moveTo>
                    <a:lnTo>
                      <a:pt x="77" y="142"/>
                    </a:lnTo>
                    <a:lnTo>
                      <a:pt x="75" y="142"/>
                    </a:lnTo>
                    <a:lnTo>
                      <a:pt x="73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1"/>
                    </a:lnTo>
                    <a:lnTo>
                      <a:pt x="72" y="141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0" y="138"/>
                    </a:lnTo>
                    <a:lnTo>
                      <a:pt x="70" y="138"/>
                    </a:lnTo>
                    <a:lnTo>
                      <a:pt x="71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69" y="135"/>
                    </a:lnTo>
                    <a:lnTo>
                      <a:pt x="69" y="135"/>
                    </a:lnTo>
                    <a:lnTo>
                      <a:pt x="69" y="136"/>
                    </a:lnTo>
                    <a:lnTo>
                      <a:pt x="69" y="137"/>
                    </a:lnTo>
                    <a:lnTo>
                      <a:pt x="69" y="137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7" y="138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40"/>
                    </a:lnTo>
                    <a:lnTo>
                      <a:pt x="64" y="140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3" y="138"/>
                    </a:lnTo>
                    <a:lnTo>
                      <a:pt x="62" y="139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2" y="141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0"/>
                    </a:lnTo>
                    <a:lnTo>
                      <a:pt x="59" y="140"/>
                    </a:lnTo>
                    <a:lnTo>
                      <a:pt x="59" y="140"/>
                    </a:lnTo>
                    <a:lnTo>
                      <a:pt x="58" y="140"/>
                    </a:lnTo>
                    <a:lnTo>
                      <a:pt x="59" y="140"/>
                    </a:lnTo>
                    <a:lnTo>
                      <a:pt x="57" y="139"/>
                    </a:lnTo>
                    <a:lnTo>
                      <a:pt x="56" y="139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8"/>
                    </a:lnTo>
                    <a:lnTo>
                      <a:pt x="56" y="138"/>
                    </a:lnTo>
                    <a:lnTo>
                      <a:pt x="56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4" y="136"/>
                    </a:lnTo>
                    <a:lnTo>
                      <a:pt x="54" y="136"/>
                    </a:lnTo>
                    <a:lnTo>
                      <a:pt x="53" y="136"/>
                    </a:lnTo>
                    <a:lnTo>
                      <a:pt x="53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1" y="135"/>
                    </a:lnTo>
                    <a:lnTo>
                      <a:pt x="51" y="135"/>
                    </a:lnTo>
                    <a:lnTo>
                      <a:pt x="51" y="136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50" y="134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49" y="133"/>
                    </a:lnTo>
                    <a:lnTo>
                      <a:pt x="49" y="133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1"/>
                    </a:lnTo>
                    <a:lnTo>
                      <a:pt x="48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8" y="130"/>
                    </a:lnTo>
                    <a:lnTo>
                      <a:pt x="47" y="130"/>
                    </a:lnTo>
                    <a:lnTo>
                      <a:pt x="47" y="130"/>
                    </a:lnTo>
                    <a:lnTo>
                      <a:pt x="46" y="130"/>
                    </a:lnTo>
                    <a:lnTo>
                      <a:pt x="46" y="130"/>
                    </a:lnTo>
                    <a:lnTo>
                      <a:pt x="45" y="129"/>
                    </a:lnTo>
                    <a:lnTo>
                      <a:pt x="46" y="129"/>
                    </a:lnTo>
                    <a:lnTo>
                      <a:pt x="45" y="129"/>
                    </a:lnTo>
                    <a:lnTo>
                      <a:pt x="45" y="128"/>
                    </a:lnTo>
                    <a:lnTo>
                      <a:pt x="46" y="127"/>
                    </a:lnTo>
                    <a:lnTo>
                      <a:pt x="46" y="127"/>
                    </a:lnTo>
                    <a:lnTo>
                      <a:pt x="46" y="126"/>
                    </a:lnTo>
                    <a:lnTo>
                      <a:pt x="46" y="126"/>
                    </a:lnTo>
                    <a:lnTo>
                      <a:pt x="47" y="126"/>
                    </a:lnTo>
                    <a:lnTo>
                      <a:pt x="47" y="125"/>
                    </a:lnTo>
                    <a:lnTo>
                      <a:pt x="48" y="125"/>
                    </a:lnTo>
                    <a:lnTo>
                      <a:pt x="48" y="124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0"/>
                    </a:lnTo>
                    <a:lnTo>
                      <a:pt x="48" y="120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20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6" y="117"/>
                    </a:lnTo>
                    <a:lnTo>
                      <a:pt x="46" y="117"/>
                    </a:lnTo>
                    <a:lnTo>
                      <a:pt x="45" y="117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2" y="112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0"/>
                    </a:lnTo>
                    <a:lnTo>
                      <a:pt x="43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09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8" y="110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8"/>
                    </a:lnTo>
                    <a:lnTo>
                      <a:pt x="51" y="108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0" y="106"/>
                    </a:lnTo>
                    <a:lnTo>
                      <a:pt x="50" y="106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48" y="101"/>
                    </a:lnTo>
                    <a:lnTo>
                      <a:pt x="48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8" y="100"/>
                    </a:lnTo>
                    <a:lnTo>
                      <a:pt x="49" y="100"/>
                    </a:lnTo>
                    <a:lnTo>
                      <a:pt x="49" y="99"/>
                    </a:lnTo>
                    <a:lnTo>
                      <a:pt x="48" y="99"/>
                    </a:lnTo>
                    <a:lnTo>
                      <a:pt x="47" y="98"/>
                    </a:lnTo>
                    <a:lnTo>
                      <a:pt x="47" y="97"/>
                    </a:lnTo>
                    <a:lnTo>
                      <a:pt x="47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0" y="95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8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7" y="95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5" y="95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7" y="94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2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4" y="91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5" y="89"/>
                    </a:lnTo>
                    <a:lnTo>
                      <a:pt x="35" y="89"/>
                    </a:lnTo>
                    <a:lnTo>
                      <a:pt x="36" y="88"/>
                    </a:lnTo>
                    <a:lnTo>
                      <a:pt x="35" y="8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6" y="85"/>
                    </a:lnTo>
                    <a:lnTo>
                      <a:pt x="36" y="85"/>
                    </a:lnTo>
                    <a:lnTo>
                      <a:pt x="35" y="85"/>
                    </a:lnTo>
                    <a:lnTo>
                      <a:pt x="35" y="84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3" y="85"/>
                    </a:lnTo>
                    <a:lnTo>
                      <a:pt x="33" y="85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2" y="84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29" y="82"/>
                    </a:lnTo>
                    <a:lnTo>
                      <a:pt x="29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7" y="78"/>
                    </a:lnTo>
                    <a:lnTo>
                      <a:pt x="27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7"/>
                    </a:lnTo>
                    <a:lnTo>
                      <a:pt x="27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8" y="77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1" y="7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3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1" y="17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5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3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4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5" y="9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7" y="9"/>
                    </a:lnTo>
                    <a:lnTo>
                      <a:pt x="77" y="9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3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12"/>
                    </a:lnTo>
                    <a:lnTo>
                      <a:pt x="75" y="13"/>
                    </a:lnTo>
                    <a:lnTo>
                      <a:pt x="75" y="14"/>
                    </a:lnTo>
                    <a:lnTo>
                      <a:pt x="75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7" y="17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1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80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6" y="24"/>
                    </a:lnTo>
                    <a:lnTo>
                      <a:pt x="86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8" y="28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9" y="29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1" y="35"/>
                    </a:lnTo>
                    <a:lnTo>
                      <a:pt x="91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3" y="34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97" y="32"/>
                    </a:lnTo>
                    <a:lnTo>
                      <a:pt x="98" y="32"/>
                    </a:lnTo>
                    <a:lnTo>
                      <a:pt x="98" y="32"/>
                    </a:lnTo>
                    <a:lnTo>
                      <a:pt x="98" y="33"/>
                    </a:lnTo>
                    <a:lnTo>
                      <a:pt x="99" y="33"/>
                    </a:lnTo>
                    <a:lnTo>
                      <a:pt x="99" y="33"/>
                    </a:lnTo>
                    <a:lnTo>
                      <a:pt x="98" y="33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8" y="36"/>
                    </a:lnTo>
                    <a:lnTo>
                      <a:pt x="98" y="36"/>
                    </a:lnTo>
                    <a:lnTo>
                      <a:pt x="99" y="37"/>
                    </a:lnTo>
                    <a:lnTo>
                      <a:pt x="99" y="38"/>
                    </a:lnTo>
                    <a:lnTo>
                      <a:pt x="99" y="38"/>
                    </a:lnTo>
                    <a:lnTo>
                      <a:pt x="99" y="39"/>
                    </a:lnTo>
                    <a:lnTo>
                      <a:pt x="99" y="39"/>
                    </a:lnTo>
                    <a:lnTo>
                      <a:pt x="100" y="39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1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4" y="37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5" y="37"/>
                    </a:lnTo>
                    <a:lnTo>
                      <a:pt x="105" y="38"/>
                    </a:lnTo>
                    <a:lnTo>
                      <a:pt x="105" y="41"/>
                    </a:lnTo>
                    <a:lnTo>
                      <a:pt x="105" y="42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4" y="48"/>
                    </a:lnTo>
                    <a:lnTo>
                      <a:pt x="105" y="48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7" y="51"/>
                    </a:lnTo>
                    <a:lnTo>
                      <a:pt x="107" y="51"/>
                    </a:lnTo>
                    <a:lnTo>
                      <a:pt x="108" y="51"/>
                    </a:lnTo>
                    <a:lnTo>
                      <a:pt x="108" y="51"/>
                    </a:lnTo>
                    <a:lnTo>
                      <a:pt x="108" y="52"/>
                    </a:lnTo>
                    <a:lnTo>
                      <a:pt x="108" y="52"/>
                    </a:lnTo>
                    <a:lnTo>
                      <a:pt x="109" y="52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3" y="59"/>
                    </a:lnTo>
                    <a:lnTo>
                      <a:pt x="113" y="59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59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0"/>
                    </a:lnTo>
                    <a:lnTo>
                      <a:pt x="122" y="60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0"/>
                    </a:lnTo>
                    <a:lnTo>
                      <a:pt x="122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4" y="60"/>
                    </a:lnTo>
                    <a:lnTo>
                      <a:pt x="124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8" y="64"/>
                    </a:lnTo>
                    <a:lnTo>
                      <a:pt x="128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1" y="64"/>
                    </a:lnTo>
                    <a:lnTo>
                      <a:pt x="131" y="65"/>
                    </a:lnTo>
                    <a:lnTo>
                      <a:pt x="130" y="65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9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8" y="68"/>
                    </a:lnTo>
                    <a:lnTo>
                      <a:pt x="128" y="69"/>
                    </a:lnTo>
                    <a:lnTo>
                      <a:pt x="129" y="69"/>
                    </a:lnTo>
                    <a:lnTo>
                      <a:pt x="129" y="69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8" y="70"/>
                    </a:lnTo>
                    <a:lnTo>
                      <a:pt x="128" y="70"/>
                    </a:lnTo>
                    <a:lnTo>
                      <a:pt x="127" y="70"/>
                    </a:lnTo>
                    <a:lnTo>
                      <a:pt x="127" y="71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6" y="72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4"/>
                    </a:lnTo>
                    <a:lnTo>
                      <a:pt x="127" y="74"/>
                    </a:lnTo>
                    <a:lnTo>
                      <a:pt x="127" y="74"/>
                    </a:lnTo>
                    <a:lnTo>
                      <a:pt x="127" y="75"/>
                    </a:lnTo>
                    <a:lnTo>
                      <a:pt x="126" y="74"/>
                    </a:lnTo>
                    <a:lnTo>
                      <a:pt x="126" y="74"/>
                    </a:lnTo>
                    <a:lnTo>
                      <a:pt x="125" y="74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3" y="77"/>
                    </a:lnTo>
                    <a:lnTo>
                      <a:pt x="123" y="77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19" y="76"/>
                    </a:lnTo>
                    <a:lnTo>
                      <a:pt x="119" y="76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7" y="76"/>
                    </a:lnTo>
                    <a:lnTo>
                      <a:pt x="117" y="76"/>
                    </a:lnTo>
                    <a:lnTo>
                      <a:pt x="116" y="77"/>
                    </a:lnTo>
                    <a:lnTo>
                      <a:pt x="117" y="77"/>
                    </a:lnTo>
                    <a:lnTo>
                      <a:pt x="117" y="78"/>
                    </a:lnTo>
                    <a:lnTo>
                      <a:pt x="117" y="78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6" y="81"/>
                    </a:lnTo>
                    <a:lnTo>
                      <a:pt x="116" y="81"/>
                    </a:lnTo>
                    <a:lnTo>
                      <a:pt x="116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80"/>
                    </a:lnTo>
                    <a:lnTo>
                      <a:pt x="111" y="81"/>
                    </a:lnTo>
                    <a:lnTo>
                      <a:pt x="110" y="81"/>
                    </a:lnTo>
                    <a:lnTo>
                      <a:pt x="110" y="81"/>
                    </a:lnTo>
                    <a:lnTo>
                      <a:pt x="110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8" y="83"/>
                    </a:lnTo>
                    <a:lnTo>
                      <a:pt x="108" y="83"/>
                    </a:lnTo>
                    <a:lnTo>
                      <a:pt x="107" y="83"/>
                    </a:lnTo>
                    <a:lnTo>
                      <a:pt x="107" y="83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6" y="81"/>
                    </a:lnTo>
                    <a:lnTo>
                      <a:pt x="106" y="81"/>
                    </a:lnTo>
                    <a:lnTo>
                      <a:pt x="105" y="81"/>
                    </a:lnTo>
                    <a:lnTo>
                      <a:pt x="105" y="82"/>
                    </a:lnTo>
                    <a:lnTo>
                      <a:pt x="105" y="82"/>
                    </a:lnTo>
                    <a:lnTo>
                      <a:pt x="105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3" y="83"/>
                    </a:lnTo>
                    <a:lnTo>
                      <a:pt x="102" y="8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4"/>
                    </a:lnTo>
                    <a:lnTo>
                      <a:pt x="100" y="84"/>
                    </a:lnTo>
                    <a:lnTo>
                      <a:pt x="99" y="84"/>
                    </a:lnTo>
                    <a:lnTo>
                      <a:pt x="99" y="84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97" y="84"/>
                    </a:lnTo>
                    <a:lnTo>
                      <a:pt x="96" y="84"/>
                    </a:lnTo>
                    <a:lnTo>
                      <a:pt x="96" y="83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5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93" y="86"/>
                    </a:lnTo>
                    <a:lnTo>
                      <a:pt x="93" y="86"/>
                    </a:lnTo>
                    <a:lnTo>
                      <a:pt x="92" y="86"/>
                    </a:lnTo>
                    <a:lnTo>
                      <a:pt x="92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3" y="91"/>
                    </a:lnTo>
                    <a:lnTo>
                      <a:pt x="93" y="91"/>
                    </a:lnTo>
                    <a:lnTo>
                      <a:pt x="93" y="92"/>
                    </a:lnTo>
                    <a:lnTo>
                      <a:pt x="92" y="92"/>
                    </a:lnTo>
                    <a:lnTo>
                      <a:pt x="92" y="93"/>
                    </a:lnTo>
                    <a:lnTo>
                      <a:pt x="92" y="93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3" y="95"/>
                    </a:lnTo>
                    <a:lnTo>
                      <a:pt x="93" y="94"/>
                    </a:lnTo>
                    <a:lnTo>
                      <a:pt x="93" y="94"/>
                    </a:lnTo>
                    <a:lnTo>
                      <a:pt x="94" y="95"/>
                    </a:lnTo>
                    <a:lnTo>
                      <a:pt x="94" y="96"/>
                    </a:lnTo>
                    <a:lnTo>
                      <a:pt x="95" y="97"/>
                    </a:lnTo>
                    <a:lnTo>
                      <a:pt x="95" y="97"/>
                    </a:lnTo>
                    <a:lnTo>
                      <a:pt x="95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2" y="99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3"/>
                    </a:lnTo>
                    <a:lnTo>
                      <a:pt x="93" y="102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3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1" y="107"/>
                    </a:lnTo>
                    <a:lnTo>
                      <a:pt x="91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89" y="107"/>
                    </a:lnTo>
                    <a:lnTo>
                      <a:pt x="89" y="107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8" y="109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8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6" y="110"/>
                    </a:lnTo>
                    <a:lnTo>
                      <a:pt x="86" y="110"/>
                    </a:lnTo>
                    <a:lnTo>
                      <a:pt x="86" y="111"/>
                    </a:lnTo>
                    <a:lnTo>
                      <a:pt x="86" y="111"/>
                    </a:lnTo>
                    <a:lnTo>
                      <a:pt x="87" y="111"/>
                    </a:lnTo>
                    <a:lnTo>
                      <a:pt x="88" y="112"/>
                    </a:lnTo>
                    <a:lnTo>
                      <a:pt x="89" y="112"/>
                    </a:lnTo>
                    <a:lnTo>
                      <a:pt x="90" y="112"/>
                    </a:lnTo>
                    <a:lnTo>
                      <a:pt x="90" y="112"/>
                    </a:lnTo>
                    <a:lnTo>
                      <a:pt x="91" y="111"/>
                    </a:lnTo>
                    <a:lnTo>
                      <a:pt x="92" y="111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2" y="113"/>
                    </a:lnTo>
                    <a:lnTo>
                      <a:pt x="93" y="113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5"/>
                    </a:lnTo>
                    <a:lnTo>
                      <a:pt x="93" y="116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8"/>
                    </a:lnTo>
                    <a:lnTo>
                      <a:pt x="94" y="118"/>
                    </a:lnTo>
                    <a:lnTo>
                      <a:pt x="94" y="119"/>
                    </a:lnTo>
                    <a:lnTo>
                      <a:pt x="94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19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3" y="123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3" y="123"/>
                    </a:lnTo>
                    <a:lnTo>
                      <a:pt x="94" y="122"/>
                    </a:lnTo>
                    <a:lnTo>
                      <a:pt x="94" y="122"/>
                    </a:lnTo>
                    <a:lnTo>
                      <a:pt x="94" y="123"/>
                    </a:lnTo>
                    <a:lnTo>
                      <a:pt x="94" y="124"/>
                    </a:lnTo>
                    <a:lnTo>
                      <a:pt x="94" y="124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7"/>
                    </a:lnTo>
                    <a:lnTo>
                      <a:pt x="95" y="128"/>
                    </a:lnTo>
                    <a:lnTo>
                      <a:pt x="94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9"/>
                    </a:lnTo>
                    <a:lnTo>
                      <a:pt x="95" y="129"/>
                    </a:lnTo>
                    <a:lnTo>
                      <a:pt x="94" y="129"/>
                    </a:lnTo>
                    <a:lnTo>
                      <a:pt x="94" y="130"/>
                    </a:lnTo>
                    <a:lnTo>
                      <a:pt x="94" y="130"/>
                    </a:lnTo>
                    <a:lnTo>
                      <a:pt x="94" y="131"/>
                    </a:lnTo>
                    <a:lnTo>
                      <a:pt x="94" y="131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4"/>
                    </a:lnTo>
                    <a:lnTo>
                      <a:pt x="93" y="134"/>
                    </a:lnTo>
                    <a:lnTo>
                      <a:pt x="94" y="134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5" y="135"/>
                    </a:lnTo>
                    <a:lnTo>
                      <a:pt x="95" y="135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8"/>
                    </a:lnTo>
                    <a:lnTo>
                      <a:pt x="94" y="138"/>
                    </a:lnTo>
                    <a:lnTo>
                      <a:pt x="94" y="139"/>
                    </a:lnTo>
                    <a:lnTo>
                      <a:pt x="94" y="140"/>
                    </a:lnTo>
                    <a:lnTo>
                      <a:pt x="94" y="140"/>
                    </a:lnTo>
                    <a:lnTo>
                      <a:pt x="95" y="140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3" y="142"/>
                    </a:lnTo>
                    <a:lnTo>
                      <a:pt x="93" y="142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1"/>
                    </a:lnTo>
                    <a:lnTo>
                      <a:pt x="90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9" y="141"/>
                    </a:lnTo>
                    <a:lnTo>
                      <a:pt x="89" y="142"/>
                    </a:lnTo>
                    <a:lnTo>
                      <a:pt x="89" y="142"/>
                    </a:lnTo>
                    <a:lnTo>
                      <a:pt x="88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4" y="143"/>
                    </a:lnTo>
                    <a:lnTo>
                      <a:pt x="85" y="144"/>
                    </a:lnTo>
                    <a:lnTo>
                      <a:pt x="84" y="143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2" y="145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0" y="144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1"/>
                    </a:lnTo>
                    <a:lnTo>
                      <a:pt x="78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65480" y="3981600"/>
                <a:ext cx="1457640" cy="1275480"/>
              </a:xfrm>
              <a:custGeom>
                <a:avLst/>
                <a:gdLst/>
                <a:ahLst/>
                <a:rect l="l" t="t" r="r" b="b"/>
                <a:pathLst>
                  <a:path w="86" h="90">
                    <a:moveTo>
                      <a:pt x="67" y="68"/>
                    </a:moveTo>
                    <a:lnTo>
                      <a:pt x="67" y="68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7" y="74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0" y="75"/>
                    </a:lnTo>
                    <a:lnTo>
                      <a:pt x="69" y="75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9"/>
                    </a:lnTo>
                    <a:lnTo>
                      <a:pt x="69" y="79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7" y="79"/>
                    </a:lnTo>
                    <a:lnTo>
                      <a:pt x="67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4" y="78"/>
                    </a:lnTo>
                    <a:lnTo>
                      <a:pt x="64" y="77"/>
                    </a:lnTo>
                    <a:lnTo>
                      <a:pt x="64" y="77"/>
                    </a:lnTo>
                    <a:lnTo>
                      <a:pt x="63" y="77"/>
                    </a:lnTo>
                    <a:lnTo>
                      <a:pt x="63" y="78"/>
                    </a:lnTo>
                    <a:lnTo>
                      <a:pt x="63" y="78"/>
                    </a:lnTo>
                    <a:lnTo>
                      <a:pt x="63" y="79"/>
                    </a:lnTo>
                    <a:lnTo>
                      <a:pt x="63" y="81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3" y="82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6"/>
                    </a:lnTo>
                    <a:lnTo>
                      <a:pt x="62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7"/>
                    </a:lnTo>
                    <a:lnTo>
                      <a:pt x="61" y="87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8" y="89"/>
                    </a:lnTo>
                    <a:lnTo>
                      <a:pt x="58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6" y="88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50" y="87"/>
                    </a:lnTo>
                    <a:lnTo>
                      <a:pt x="50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49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5" y="82"/>
                    </a:lnTo>
                    <a:lnTo>
                      <a:pt x="46" y="81"/>
                    </a:lnTo>
                    <a:lnTo>
                      <a:pt x="45" y="81"/>
                    </a:lnTo>
                    <a:lnTo>
                      <a:pt x="45" y="81"/>
                    </a:lnTo>
                    <a:lnTo>
                      <a:pt x="44" y="81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2" y="79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1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0" y="83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1"/>
                    </a:lnTo>
                    <a:lnTo>
                      <a:pt x="38" y="81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7" y="82"/>
                    </a:lnTo>
                    <a:lnTo>
                      <a:pt x="37" y="81"/>
                    </a:lnTo>
                    <a:lnTo>
                      <a:pt x="37" y="81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7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17" y="77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7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4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2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7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0" y="43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10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7"/>
                    </a:lnTo>
                    <a:lnTo>
                      <a:pt x="64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70" y="12"/>
                    </a:lnTo>
                    <a:lnTo>
                      <a:pt x="70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6"/>
                    </a:lnTo>
                    <a:lnTo>
                      <a:pt x="71" y="16"/>
                    </a:lnTo>
                    <a:lnTo>
                      <a:pt x="70" y="17"/>
                    </a:lnTo>
                    <a:lnTo>
                      <a:pt x="70" y="17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0" y="23"/>
                    </a:lnTo>
                    <a:lnTo>
                      <a:pt x="71" y="23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5"/>
                    </a:lnTo>
                    <a:lnTo>
                      <a:pt x="73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9" y="24"/>
                    </a:lnTo>
                    <a:lnTo>
                      <a:pt x="79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5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6"/>
                    </a:lnTo>
                    <a:lnTo>
                      <a:pt x="83" y="27"/>
                    </a:lnTo>
                    <a:lnTo>
                      <a:pt x="84" y="27"/>
                    </a:lnTo>
                    <a:lnTo>
                      <a:pt x="84" y="28"/>
                    </a:lnTo>
                    <a:lnTo>
                      <a:pt x="83" y="28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2" y="29"/>
                    </a:lnTo>
                    <a:lnTo>
                      <a:pt x="82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2"/>
                    </a:lnTo>
                    <a:lnTo>
                      <a:pt x="83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4" y="39"/>
                    </a:lnTo>
                    <a:lnTo>
                      <a:pt x="84" y="38"/>
                    </a:lnTo>
                    <a:lnTo>
                      <a:pt x="84" y="38"/>
                    </a:lnTo>
                    <a:lnTo>
                      <a:pt x="83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7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8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7" y="39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8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3" y="47"/>
                    </a:lnTo>
                    <a:lnTo>
                      <a:pt x="83" y="48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3" y="52"/>
                    </a:lnTo>
                    <a:lnTo>
                      <a:pt x="83" y="53"/>
                    </a:lnTo>
                    <a:lnTo>
                      <a:pt x="82" y="53"/>
                    </a:lnTo>
                    <a:lnTo>
                      <a:pt x="82" y="54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0" y="56"/>
                    </a:lnTo>
                    <a:lnTo>
                      <a:pt x="80" y="57"/>
                    </a:lnTo>
                    <a:lnTo>
                      <a:pt x="81" y="57"/>
                    </a:lnTo>
                    <a:lnTo>
                      <a:pt x="80" y="57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1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9" y="62"/>
                    </a:lnTo>
                    <a:lnTo>
                      <a:pt x="80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6" y="65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6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2" y="67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1" y="68"/>
                    </a:lnTo>
                    <a:lnTo>
                      <a:pt x="71" y="67"/>
                    </a:lnTo>
                    <a:lnTo>
                      <a:pt x="71" y="68"/>
                    </a:lnTo>
                    <a:lnTo>
                      <a:pt x="71" y="68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8"/>
                    </a:lnTo>
                    <a:lnTo>
                      <a:pt x="67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60640" y="5514120"/>
                <a:ext cx="1446840" cy="1105200"/>
              </a:xfrm>
              <a:custGeom>
                <a:avLst/>
                <a:gdLst/>
                <a:ahLst/>
                <a:rect l="l" t="t" r="r" b="b"/>
                <a:pathLst>
                  <a:path w="86" h="78">
                    <a:moveTo>
                      <a:pt x="75" y="39"/>
                    </a:moveTo>
                    <a:lnTo>
                      <a:pt x="76" y="39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1" y="40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4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7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3" y="50"/>
                    </a:lnTo>
                    <a:lnTo>
                      <a:pt x="83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4" y="51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5" y="53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3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80" y="60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3" y="60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4" y="64"/>
                    </a:lnTo>
                    <a:lnTo>
                      <a:pt x="74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1" y="66"/>
                    </a:lnTo>
                    <a:lnTo>
                      <a:pt x="72" y="67"/>
                    </a:lnTo>
                    <a:lnTo>
                      <a:pt x="72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7" y="67"/>
                    </a:lnTo>
                    <a:lnTo>
                      <a:pt x="68" y="67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1" y="62"/>
                    </a:lnTo>
                    <a:lnTo>
                      <a:pt x="61" y="62"/>
                    </a:lnTo>
                    <a:lnTo>
                      <a:pt x="60" y="62"/>
                    </a:lnTo>
                    <a:lnTo>
                      <a:pt x="60" y="62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7" y="63"/>
                    </a:lnTo>
                    <a:lnTo>
                      <a:pt x="57" y="63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5"/>
                    </a:lnTo>
                    <a:lnTo>
                      <a:pt x="56" y="65"/>
                    </a:lnTo>
                    <a:lnTo>
                      <a:pt x="56" y="65"/>
                    </a:lnTo>
                    <a:lnTo>
                      <a:pt x="56" y="64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8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67"/>
                    </a:lnTo>
                    <a:lnTo>
                      <a:pt x="47" y="67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3" y="70"/>
                    </a:lnTo>
                    <a:lnTo>
                      <a:pt x="42" y="70"/>
                    </a:lnTo>
                    <a:lnTo>
                      <a:pt x="42" y="71"/>
                    </a:lnTo>
                    <a:lnTo>
                      <a:pt x="42" y="70"/>
                    </a:lnTo>
                    <a:lnTo>
                      <a:pt x="41" y="70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2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40" y="77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8" y="78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7" y="77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6" y="75"/>
                    </a:lnTo>
                    <a:lnTo>
                      <a:pt x="36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2" y="77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1" y="78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9" y="75"/>
                    </a:lnTo>
                    <a:lnTo>
                      <a:pt x="29" y="75"/>
                    </a:lnTo>
                    <a:lnTo>
                      <a:pt x="29" y="74"/>
                    </a:lnTo>
                    <a:lnTo>
                      <a:pt x="30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8" y="68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7" y="65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3" y="66"/>
                    </a:lnTo>
                    <a:lnTo>
                      <a:pt x="22" y="66"/>
                    </a:lnTo>
                    <a:lnTo>
                      <a:pt x="23" y="66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0" y="64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19" y="62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2" y="51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3" y="45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1" y="45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9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5" y="14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3" y="17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8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2" y="6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3" y="8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2" y="10"/>
                    </a:lnTo>
                    <a:lnTo>
                      <a:pt x="72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3" y="14"/>
                    </a:lnTo>
                    <a:lnTo>
                      <a:pt x="73" y="15"/>
                    </a:lnTo>
                    <a:lnTo>
                      <a:pt x="73" y="16"/>
                    </a:lnTo>
                    <a:lnTo>
                      <a:pt x="73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5" y="30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7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3"/>
                    </a:lnTo>
                    <a:lnTo>
                      <a:pt x="77" y="33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5" y="36"/>
                    </a:lnTo>
                    <a:lnTo>
                      <a:pt x="75" y="36"/>
                    </a:lnTo>
                    <a:lnTo>
                      <a:pt x="75" y="37"/>
                    </a:lnTo>
                    <a:lnTo>
                      <a:pt x="75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61600" y="5142960"/>
                <a:ext cx="1418760" cy="1467720"/>
              </a:xfrm>
              <a:custGeom>
                <a:avLst/>
                <a:gdLst/>
                <a:ahLst/>
                <a:rect l="l" t="t" r="r" b="b"/>
                <a:pathLst>
                  <a:path w="84" h="103">
                    <a:moveTo>
                      <a:pt x="14" y="20"/>
                    </a:moveTo>
                    <a:lnTo>
                      <a:pt x="14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3"/>
                    </a:lnTo>
                    <a:lnTo>
                      <a:pt x="11" y="74"/>
                    </a:lnTo>
                    <a:lnTo>
                      <a:pt x="11" y="74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2" y="76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5" y="84"/>
                    </a:lnTo>
                    <a:lnTo>
                      <a:pt x="15" y="85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8" y="85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3"/>
                    </a:lnTo>
                    <a:lnTo>
                      <a:pt x="21" y="83"/>
                    </a:lnTo>
                    <a:lnTo>
                      <a:pt x="21" y="84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1" y="85"/>
                    </a:lnTo>
                    <a:lnTo>
                      <a:pt x="31" y="85"/>
                    </a:lnTo>
                    <a:lnTo>
                      <a:pt x="31" y="86"/>
                    </a:lnTo>
                    <a:lnTo>
                      <a:pt x="31" y="86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3" y="87"/>
                    </a:lnTo>
                    <a:lnTo>
                      <a:pt x="33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8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8" y="92"/>
                    </a:lnTo>
                    <a:lnTo>
                      <a:pt x="39" y="92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50" y="98"/>
                    </a:lnTo>
                    <a:lnTo>
                      <a:pt x="50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4" y="100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7" y="100"/>
                    </a:lnTo>
                    <a:lnTo>
                      <a:pt x="58" y="99"/>
                    </a:lnTo>
                    <a:lnTo>
                      <a:pt x="59" y="100"/>
                    </a:lnTo>
                    <a:lnTo>
                      <a:pt x="59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100"/>
                    </a:lnTo>
                    <a:lnTo>
                      <a:pt x="60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3" y="101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4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7" y="101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9" y="102"/>
                    </a:lnTo>
                    <a:lnTo>
                      <a:pt x="69" y="102"/>
                    </a:lnTo>
                    <a:lnTo>
                      <a:pt x="69" y="103"/>
                    </a:lnTo>
                    <a:lnTo>
                      <a:pt x="69" y="103"/>
                    </a:lnTo>
                    <a:lnTo>
                      <a:pt x="70" y="103"/>
                    </a:lnTo>
                    <a:lnTo>
                      <a:pt x="70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4"/>
                    </a:lnTo>
                    <a:lnTo>
                      <a:pt x="66" y="94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5" y="95"/>
                    </a:lnTo>
                    <a:lnTo>
                      <a:pt x="65" y="95"/>
                    </a:lnTo>
                    <a:lnTo>
                      <a:pt x="64" y="95"/>
                    </a:lnTo>
                    <a:lnTo>
                      <a:pt x="64" y="95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4" y="93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8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3"/>
                    </a:lnTo>
                    <a:lnTo>
                      <a:pt x="63" y="81"/>
                    </a:lnTo>
                    <a:lnTo>
                      <a:pt x="62" y="80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61" y="76"/>
                    </a:lnTo>
                    <a:lnTo>
                      <a:pt x="60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1" y="67"/>
                    </a:lnTo>
                    <a:lnTo>
                      <a:pt x="61" y="67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4" y="62"/>
                    </a:lnTo>
                    <a:lnTo>
                      <a:pt x="64" y="62"/>
                    </a:lnTo>
                    <a:lnTo>
                      <a:pt x="64" y="61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8" y="56"/>
                    </a:lnTo>
                    <a:lnTo>
                      <a:pt x="67" y="55"/>
                    </a:lnTo>
                    <a:lnTo>
                      <a:pt x="67" y="55"/>
                    </a:lnTo>
                    <a:lnTo>
                      <a:pt x="68" y="54"/>
                    </a:lnTo>
                    <a:lnTo>
                      <a:pt x="68" y="53"/>
                    </a:lnTo>
                    <a:lnTo>
                      <a:pt x="70" y="51"/>
                    </a:lnTo>
                    <a:lnTo>
                      <a:pt x="70" y="50"/>
                    </a:lnTo>
                    <a:lnTo>
                      <a:pt x="71" y="48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6"/>
                    </a:lnTo>
                    <a:lnTo>
                      <a:pt x="72" y="45"/>
                    </a:lnTo>
                    <a:lnTo>
                      <a:pt x="73" y="45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5" y="40"/>
                    </a:lnTo>
                    <a:lnTo>
                      <a:pt x="75" y="40"/>
                    </a:lnTo>
                    <a:lnTo>
                      <a:pt x="76" y="39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6" y="37"/>
                    </a:lnTo>
                    <a:lnTo>
                      <a:pt x="77" y="37"/>
                    </a:lnTo>
                    <a:lnTo>
                      <a:pt x="77" y="37"/>
                    </a:lnTo>
                    <a:lnTo>
                      <a:pt x="77" y="36"/>
                    </a:lnTo>
                    <a:lnTo>
                      <a:pt x="77" y="36"/>
                    </a:lnTo>
                    <a:lnTo>
                      <a:pt x="78" y="36"/>
                    </a:lnTo>
                    <a:lnTo>
                      <a:pt x="79" y="34"/>
                    </a:lnTo>
                    <a:lnTo>
                      <a:pt x="80" y="33"/>
                    </a:lnTo>
                    <a:lnTo>
                      <a:pt x="81" y="32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2" y="29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4" y="28"/>
                    </a:lnTo>
                    <a:lnTo>
                      <a:pt x="84" y="27"/>
                    </a:lnTo>
                    <a:lnTo>
                      <a:pt x="84" y="26"/>
                    </a:lnTo>
                    <a:lnTo>
                      <a:pt x="83" y="26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5"/>
                    </a:lnTo>
                    <a:lnTo>
                      <a:pt x="81" y="25"/>
                    </a:lnTo>
                    <a:lnTo>
                      <a:pt x="81" y="24"/>
                    </a:lnTo>
                    <a:lnTo>
                      <a:pt x="81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3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8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3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49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5" y="22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5" y="19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8" y="20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8" y="17"/>
                    </a:lnTo>
                    <a:lnTo>
                      <a:pt x="48" y="16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95520" y="3869280"/>
                <a:ext cx="1569960" cy="1675080"/>
              </a:xfrm>
              <a:custGeom>
                <a:avLst/>
                <a:gdLst/>
                <a:ahLst/>
                <a:rect l="l" t="t" r="r" b="b"/>
                <a:pathLst>
                  <a:path w="93" h="118">
                    <a:moveTo>
                      <a:pt x="10" y="33"/>
                    </a:moveTo>
                    <a:lnTo>
                      <a:pt x="10" y="33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1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5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69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0" y="4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72" y="47"/>
                    </a:lnTo>
                    <a:lnTo>
                      <a:pt x="72" y="47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2" y="53"/>
                    </a:lnTo>
                    <a:lnTo>
                      <a:pt x="72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5"/>
                    </a:lnTo>
                    <a:lnTo>
                      <a:pt x="71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4" y="71"/>
                    </a:lnTo>
                    <a:lnTo>
                      <a:pt x="84" y="71"/>
                    </a:lnTo>
                    <a:lnTo>
                      <a:pt x="85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3"/>
                    </a:lnTo>
                    <a:lnTo>
                      <a:pt x="85" y="73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5"/>
                    </a:lnTo>
                    <a:lnTo>
                      <a:pt x="87" y="75"/>
                    </a:lnTo>
                    <a:lnTo>
                      <a:pt x="87" y="76"/>
                    </a:lnTo>
                    <a:lnTo>
                      <a:pt x="88" y="76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90" y="77"/>
                    </a:lnTo>
                    <a:lnTo>
                      <a:pt x="91" y="78"/>
                    </a:lnTo>
                    <a:lnTo>
                      <a:pt x="91" y="78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93" y="78"/>
                    </a:lnTo>
                    <a:lnTo>
                      <a:pt x="93" y="78"/>
                    </a:lnTo>
                    <a:lnTo>
                      <a:pt x="92" y="79"/>
                    </a:lnTo>
                    <a:lnTo>
                      <a:pt x="91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8" y="80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6" y="82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8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89" y="84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6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90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89"/>
                    </a:lnTo>
                    <a:lnTo>
                      <a:pt x="92" y="89"/>
                    </a:lnTo>
                    <a:lnTo>
                      <a:pt x="92" y="91"/>
                    </a:lnTo>
                    <a:lnTo>
                      <a:pt x="92" y="91"/>
                    </a:lnTo>
                    <a:lnTo>
                      <a:pt x="92" y="92"/>
                    </a:lnTo>
                    <a:lnTo>
                      <a:pt x="93" y="92"/>
                    </a:lnTo>
                    <a:lnTo>
                      <a:pt x="93" y="93"/>
                    </a:lnTo>
                    <a:lnTo>
                      <a:pt x="93" y="93"/>
                    </a:lnTo>
                    <a:lnTo>
                      <a:pt x="93" y="95"/>
                    </a:lnTo>
                    <a:lnTo>
                      <a:pt x="93" y="97"/>
                    </a:lnTo>
                    <a:lnTo>
                      <a:pt x="93" y="100"/>
                    </a:lnTo>
                    <a:lnTo>
                      <a:pt x="92" y="103"/>
                    </a:lnTo>
                    <a:lnTo>
                      <a:pt x="91" y="104"/>
                    </a:lnTo>
                    <a:lnTo>
                      <a:pt x="91" y="105"/>
                    </a:lnTo>
                    <a:lnTo>
                      <a:pt x="90" y="105"/>
                    </a:lnTo>
                    <a:lnTo>
                      <a:pt x="89" y="105"/>
                    </a:lnTo>
                    <a:lnTo>
                      <a:pt x="88" y="106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4" y="107"/>
                    </a:lnTo>
                    <a:lnTo>
                      <a:pt x="83" y="107"/>
                    </a:lnTo>
                    <a:lnTo>
                      <a:pt x="82" y="107"/>
                    </a:lnTo>
                    <a:lnTo>
                      <a:pt x="82" y="108"/>
                    </a:lnTo>
                    <a:lnTo>
                      <a:pt x="82" y="108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0"/>
                    </a:lnTo>
                    <a:lnTo>
                      <a:pt x="81" y="111"/>
                    </a:lnTo>
                    <a:lnTo>
                      <a:pt x="81" y="111"/>
                    </a:lnTo>
                    <a:lnTo>
                      <a:pt x="80" y="112"/>
                    </a:lnTo>
                    <a:lnTo>
                      <a:pt x="79" y="112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4"/>
                    </a:lnTo>
                    <a:lnTo>
                      <a:pt x="78" y="114"/>
                    </a:lnTo>
                    <a:lnTo>
                      <a:pt x="78" y="116"/>
                    </a:lnTo>
                    <a:lnTo>
                      <a:pt x="76" y="117"/>
                    </a:lnTo>
                    <a:lnTo>
                      <a:pt x="76" y="116"/>
                    </a:lnTo>
                    <a:lnTo>
                      <a:pt x="75" y="116"/>
                    </a:lnTo>
                    <a:lnTo>
                      <a:pt x="75" y="116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4" y="114"/>
                    </a:lnTo>
                    <a:lnTo>
                      <a:pt x="74" y="115"/>
                    </a:lnTo>
                    <a:lnTo>
                      <a:pt x="73" y="115"/>
                    </a:lnTo>
                    <a:lnTo>
                      <a:pt x="73" y="114"/>
                    </a:lnTo>
                    <a:lnTo>
                      <a:pt x="73" y="114"/>
                    </a:lnTo>
                    <a:lnTo>
                      <a:pt x="72" y="114"/>
                    </a:lnTo>
                    <a:lnTo>
                      <a:pt x="71" y="114"/>
                    </a:lnTo>
                    <a:lnTo>
                      <a:pt x="71" y="113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71" y="112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0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70" y="110"/>
                    </a:lnTo>
                    <a:lnTo>
                      <a:pt x="70" y="110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1"/>
                    </a:lnTo>
                    <a:lnTo>
                      <a:pt x="67" y="111"/>
                    </a:lnTo>
                    <a:lnTo>
                      <a:pt x="66" y="111"/>
                    </a:lnTo>
                    <a:lnTo>
                      <a:pt x="66" y="112"/>
                    </a:lnTo>
                    <a:lnTo>
                      <a:pt x="65" y="111"/>
                    </a:lnTo>
                    <a:lnTo>
                      <a:pt x="65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2" y="110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61" y="112"/>
                    </a:lnTo>
                    <a:lnTo>
                      <a:pt x="61" y="113"/>
                    </a:lnTo>
                    <a:lnTo>
                      <a:pt x="61" y="113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0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6"/>
                    </a:lnTo>
                    <a:lnTo>
                      <a:pt x="59" y="116"/>
                    </a:lnTo>
                    <a:lnTo>
                      <a:pt x="58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6" y="117"/>
                    </a:lnTo>
                    <a:lnTo>
                      <a:pt x="55" y="117"/>
                    </a:lnTo>
                    <a:lnTo>
                      <a:pt x="55" y="117"/>
                    </a:lnTo>
                    <a:lnTo>
                      <a:pt x="54" y="117"/>
                    </a:lnTo>
                    <a:lnTo>
                      <a:pt x="53" y="117"/>
                    </a:lnTo>
                    <a:lnTo>
                      <a:pt x="53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8"/>
                    </a:lnTo>
                    <a:lnTo>
                      <a:pt x="51" y="117"/>
                    </a:lnTo>
                    <a:lnTo>
                      <a:pt x="51" y="117"/>
                    </a:lnTo>
                    <a:lnTo>
                      <a:pt x="50" y="117"/>
                    </a:lnTo>
                    <a:lnTo>
                      <a:pt x="49" y="117"/>
                    </a:lnTo>
                    <a:lnTo>
                      <a:pt x="48" y="118"/>
                    </a:lnTo>
                    <a:lnTo>
                      <a:pt x="48" y="118"/>
                    </a:lnTo>
                    <a:lnTo>
                      <a:pt x="47" y="118"/>
                    </a:lnTo>
                    <a:lnTo>
                      <a:pt x="47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3" y="118"/>
                    </a:lnTo>
                    <a:lnTo>
                      <a:pt x="43" y="117"/>
                    </a:lnTo>
                    <a:lnTo>
                      <a:pt x="43" y="117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5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3" y="115"/>
                    </a:lnTo>
                    <a:lnTo>
                      <a:pt x="42" y="115"/>
                    </a:lnTo>
                    <a:lnTo>
                      <a:pt x="41" y="115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7" y="115"/>
                    </a:lnTo>
                    <a:lnTo>
                      <a:pt x="37" y="114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6" y="113"/>
                    </a:lnTo>
                    <a:lnTo>
                      <a:pt x="36" y="114"/>
                    </a:lnTo>
                    <a:lnTo>
                      <a:pt x="36" y="113"/>
                    </a:lnTo>
                    <a:lnTo>
                      <a:pt x="35" y="113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7" y="112"/>
                    </a:lnTo>
                    <a:lnTo>
                      <a:pt x="37" y="112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6" y="109"/>
                    </a:lnTo>
                    <a:lnTo>
                      <a:pt x="37" y="109"/>
                    </a:lnTo>
                    <a:lnTo>
                      <a:pt x="37" y="109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9"/>
                    </a:lnTo>
                    <a:lnTo>
                      <a:pt x="40" y="110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0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0" y="107"/>
                    </a:lnTo>
                    <a:lnTo>
                      <a:pt x="40" y="106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5"/>
                    </a:lnTo>
                    <a:lnTo>
                      <a:pt x="38" y="105"/>
                    </a:lnTo>
                    <a:lnTo>
                      <a:pt x="38" y="105"/>
                    </a:lnTo>
                    <a:lnTo>
                      <a:pt x="39" y="104"/>
                    </a:lnTo>
                    <a:lnTo>
                      <a:pt x="38" y="104"/>
                    </a:lnTo>
                    <a:lnTo>
                      <a:pt x="38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3"/>
                    </a:lnTo>
                    <a:lnTo>
                      <a:pt x="39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7" y="102"/>
                    </a:lnTo>
                    <a:lnTo>
                      <a:pt x="37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5" y="102"/>
                    </a:lnTo>
                    <a:lnTo>
                      <a:pt x="35" y="102"/>
                    </a:lnTo>
                    <a:lnTo>
                      <a:pt x="34" y="103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3" y="101"/>
                    </a:lnTo>
                    <a:lnTo>
                      <a:pt x="33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5" y="95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3" y="90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90"/>
                    </a:lnTo>
                    <a:lnTo>
                      <a:pt x="20" y="91"/>
                    </a:lnTo>
                    <a:lnTo>
                      <a:pt x="19" y="91"/>
                    </a:lnTo>
                    <a:lnTo>
                      <a:pt x="19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6" y="93"/>
                    </a:lnTo>
                    <a:lnTo>
                      <a:pt x="16" y="93"/>
                    </a:lnTo>
                    <a:lnTo>
                      <a:pt x="15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3" y="92"/>
                    </a:lnTo>
                    <a:lnTo>
                      <a:pt x="13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9" y="55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8" y="51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5800" y="3001680"/>
                <a:ext cx="1924200" cy="2104560"/>
              </a:xfrm>
              <a:custGeom>
                <a:avLst/>
                <a:gdLst/>
                <a:ahLst/>
                <a:rect l="l" t="t" r="r" b="b"/>
                <a:pathLst>
                  <a:path w="114" h="148">
                    <a:moveTo>
                      <a:pt x="97" y="68"/>
                    </a:moveTo>
                    <a:lnTo>
                      <a:pt x="97" y="68"/>
                    </a:lnTo>
                    <a:lnTo>
                      <a:pt x="97" y="68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6" y="67"/>
                    </a:lnTo>
                    <a:lnTo>
                      <a:pt x="95" y="66"/>
                    </a:lnTo>
                    <a:lnTo>
                      <a:pt x="95" y="67"/>
                    </a:lnTo>
                    <a:lnTo>
                      <a:pt x="95" y="67"/>
                    </a:lnTo>
                    <a:lnTo>
                      <a:pt x="94" y="67"/>
                    </a:lnTo>
                    <a:lnTo>
                      <a:pt x="94" y="67"/>
                    </a:lnTo>
                    <a:lnTo>
                      <a:pt x="94" y="66"/>
                    </a:lnTo>
                    <a:lnTo>
                      <a:pt x="94" y="65"/>
                    </a:lnTo>
                    <a:lnTo>
                      <a:pt x="94" y="66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2" y="65"/>
                    </a:lnTo>
                    <a:lnTo>
                      <a:pt x="92" y="65"/>
                    </a:lnTo>
                    <a:lnTo>
                      <a:pt x="92" y="64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6"/>
                    </a:lnTo>
                    <a:lnTo>
                      <a:pt x="91" y="66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9" y="66"/>
                    </a:lnTo>
                    <a:lnTo>
                      <a:pt x="89" y="66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7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7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4" y="66"/>
                    </a:lnTo>
                    <a:lnTo>
                      <a:pt x="84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5"/>
                    </a:lnTo>
                    <a:lnTo>
                      <a:pt x="81" y="65"/>
                    </a:lnTo>
                    <a:lnTo>
                      <a:pt x="80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8" y="65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6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1"/>
                    </a:lnTo>
                    <a:lnTo>
                      <a:pt x="75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67" y="57"/>
                    </a:lnTo>
                    <a:lnTo>
                      <a:pt x="67" y="58"/>
                    </a:lnTo>
                    <a:lnTo>
                      <a:pt x="67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5" y="59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4" y="61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6" y="57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6" y="54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8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8" y="46"/>
                    </a:lnTo>
                    <a:lnTo>
                      <a:pt x="57" y="46"/>
                    </a:lnTo>
                    <a:lnTo>
                      <a:pt x="58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6" y="42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0" y="40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1" y="37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1" y="29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8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87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3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5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1" y="100"/>
                    </a:lnTo>
                    <a:lnTo>
                      <a:pt x="11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2"/>
                    </a:lnTo>
                    <a:lnTo>
                      <a:pt x="14" y="102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4" y="105"/>
                    </a:lnTo>
                    <a:lnTo>
                      <a:pt x="14" y="105"/>
                    </a:lnTo>
                    <a:lnTo>
                      <a:pt x="15" y="105"/>
                    </a:ln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6" y="107"/>
                    </a:lnTo>
                    <a:lnTo>
                      <a:pt x="16" y="107"/>
                    </a:lnTo>
                    <a:lnTo>
                      <a:pt x="16" y="108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18" y="106"/>
                    </a:lnTo>
                    <a:lnTo>
                      <a:pt x="18" y="105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0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2" y="107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10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5" y="111"/>
                    </a:lnTo>
                    <a:lnTo>
                      <a:pt x="26" y="111"/>
                    </a:lnTo>
                    <a:lnTo>
                      <a:pt x="26" y="111"/>
                    </a:lnTo>
                    <a:lnTo>
                      <a:pt x="28" y="111"/>
                    </a:lnTo>
                    <a:lnTo>
                      <a:pt x="28" y="111"/>
                    </a:lnTo>
                    <a:lnTo>
                      <a:pt x="28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3"/>
                    </a:lnTo>
                    <a:lnTo>
                      <a:pt x="30" y="113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31" y="114"/>
                    </a:lnTo>
                    <a:lnTo>
                      <a:pt x="32" y="114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3" y="115"/>
                    </a:lnTo>
                    <a:lnTo>
                      <a:pt x="33" y="115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3" y="118"/>
                    </a:lnTo>
                    <a:lnTo>
                      <a:pt x="33" y="118"/>
                    </a:lnTo>
                    <a:lnTo>
                      <a:pt x="33" y="119"/>
                    </a:lnTo>
                    <a:lnTo>
                      <a:pt x="34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1"/>
                    </a:lnTo>
                    <a:lnTo>
                      <a:pt x="37" y="121"/>
                    </a:lnTo>
                    <a:lnTo>
                      <a:pt x="38" y="121"/>
                    </a:lnTo>
                    <a:lnTo>
                      <a:pt x="38" y="121"/>
                    </a:lnTo>
                    <a:lnTo>
                      <a:pt x="38" y="122"/>
                    </a:lnTo>
                    <a:lnTo>
                      <a:pt x="39" y="122"/>
                    </a:lnTo>
                    <a:lnTo>
                      <a:pt x="39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1" y="122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2" y="123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6" y="124"/>
                    </a:lnTo>
                    <a:lnTo>
                      <a:pt x="46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9" y="123"/>
                    </a:lnTo>
                    <a:lnTo>
                      <a:pt x="50" y="123"/>
                    </a:lnTo>
                    <a:lnTo>
                      <a:pt x="50" y="123"/>
                    </a:lnTo>
                    <a:lnTo>
                      <a:pt x="50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2" y="123"/>
                    </a:lnTo>
                    <a:lnTo>
                      <a:pt x="52" y="123"/>
                    </a:lnTo>
                    <a:lnTo>
                      <a:pt x="52" y="122"/>
                    </a:lnTo>
                    <a:lnTo>
                      <a:pt x="52" y="122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0"/>
                    </a:lnTo>
                    <a:lnTo>
                      <a:pt x="51" y="120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4" y="118"/>
                    </a:lnTo>
                    <a:lnTo>
                      <a:pt x="55" y="118"/>
                    </a:lnTo>
                    <a:lnTo>
                      <a:pt x="55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8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60" y="118"/>
                    </a:lnTo>
                    <a:lnTo>
                      <a:pt x="60" y="118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3"/>
                    </a:lnTo>
                    <a:lnTo>
                      <a:pt x="64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2" y="125"/>
                    </a:lnTo>
                    <a:lnTo>
                      <a:pt x="62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64" y="130"/>
                    </a:lnTo>
                    <a:lnTo>
                      <a:pt x="64" y="130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5" y="131"/>
                    </a:lnTo>
                    <a:lnTo>
                      <a:pt x="65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7" y="131"/>
                    </a:lnTo>
                    <a:lnTo>
                      <a:pt x="67" y="131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1" y="134"/>
                    </a:lnTo>
                    <a:lnTo>
                      <a:pt x="71" y="134"/>
                    </a:lnTo>
                    <a:lnTo>
                      <a:pt x="71" y="135"/>
                    </a:lnTo>
                    <a:lnTo>
                      <a:pt x="71" y="135"/>
                    </a:lnTo>
                    <a:lnTo>
                      <a:pt x="71" y="136"/>
                    </a:lnTo>
                    <a:lnTo>
                      <a:pt x="72" y="136"/>
                    </a:lnTo>
                    <a:lnTo>
                      <a:pt x="72" y="136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9"/>
                    </a:lnTo>
                    <a:lnTo>
                      <a:pt x="71" y="140"/>
                    </a:lnTo>
                    <a:lnTo>
                      <a:pt x="71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1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3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5" y="143"/>
                    </a:lnTo>
                    <a:lnTo>
                      <a:pt x="75" y="143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5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7"/>
                    </a:lnTo>
                    <a:lnTo>
                      <a:pt x="75" y="146"/>
                    </a:lnTo>
                    <a:lnTo>
                      <a:pt x="74" y="146"/>
                    </a:lnTo>
                    <a:lnTo>
                      <a:pt x="74" y="146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0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6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3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7" y="144"/>
                    </a:lnTo>
                    <a:lnTo>
                      <a:pt x="86" y="143"/>
                    </a:lnTo>
                    <a:lnTo>
                      <a:pt x="87" y="143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1"/>
                    </a:lnTo>
                    <a:lnTo>
                      <a:pt x="87" y="141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9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7"/>
                    </a:lnTo>
                    <a:lnTo>
                      <a:pt x="84" y="137"/>
                    </a:lnTo>
                    <a:lnTo>
                      <a:pt x="84" y="136"/>
                    </a:lnTo>
                    <a:lnTo>
                      <a:pt x="84" y="135"/>
                    </a:lnTo>
                    <a:lnTo>
                      <a:pt x="83" y="135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5" y="133"/>
                    </a:lnTo>
                    <a:lnTo>
                      <a:pt x="84" y="132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6" y="131"/>
                    </a:lnTo>
                    <a:lnTo>
                      <a:pt x="87" y="131"/>
                    </a:lnTo>
                    <a:lnTo>
                      <a:pt x="87" y="131"/>
                    </a:lnTo>
                    <a:lnTo>
                      <a:pt x="87" y="130"/>
                    </a:lnTo>
                    <a:lnTo>
                      <a:pt x="87" y="130"/>
                    </a:lnTo>
                    <a:lnTo>
                      <a:pt x="87" y="129"/>
                    </a:lnTo>
                    <a:lnTo>
                      <a:pt x="87" y="129"/>
                    </a:lnTo>
                    <a:lnTo>
                      <a:pt x="87" y="128"/>
                    </a:lnTo>
                    <a:lnTo>
                      <a:pt x="87" y="128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87" y="128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8" y="127"/>
                    </a:lnTo>
                    <a:lnTo>
                      <a:pt x="89" y="128"/>
                    </a:lnTo>
                    <a:lnTo>
                      <a:pt x="90" y="128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8"/>
                    </a:lnTo>
                    <a:lnTo>
                      <a:pt x="91" y="128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2" y="127"/>
                    </a:lnTo>
                    <a:lnTo>
                      <a:pt x="92" y="127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3" y="125"/>
                    </a:lnTo>
                    <a:lnTo>
                      <a:pt x="93" y="125"/>
                    </a:lnTo>
                    <a:lnTo>
                      <a:pt x="92" y="123"/>
                    </a:lnTo>
                    <a:lnTo>
                      <a:pt x="92" y="123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1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19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2" y="116"/>
                    </a:lnTo>
                    <a:lnTo>
                      <a:pt x="92" y="115"/>
                    </a:lnTo>
                    <a:lnTo>
                      <a:pt x="92" y="115"/>
                    </a:lnTo>
                    <a:lnTo>
                      <a:pt x="91" y="114"/>
                    </a:lnTo>
                    <a:lnTo>
                      <a:pt x="91" y="114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2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3" y="112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0"/>
                    </a:lnTo>
                    <a:lnTo>
                      <a:pt x="93" y="110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3" y="109"/>
                    </a:lnTo>
                    <a:lnTo>
                      <a:pt x="93" y="109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4" y="105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5" y="102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4"/>
                    </a:lnTo>
                    <a:lnTo>
                      <a:pt x="96" y="104"/>
                    </a:lnTo>
                    <a:lnTo>
                      <a:pt x="96" y="103"/>
                    </a:lnTo>
                    <a:lnTo>
                      <a:pt x="97" y="103"/>
                    </a:lnTo>
                    <a:lnTo>
                      <a:pt x="97" y="103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99" y="103"/>
                    </a:lnTo>
                    <a:lnTo>
                      <a:pt x="99" y="103"/>
                    </a:lnTo>
                    <a:lnTo>
                      <a:pt x="99" y="104"/>
                    </a:lnTo>
                    <a:lnTo>
                      <a:pt x="100" y="103"/>
                    </a:lnTo>
                    <a:lnTo>
                      <a:pt x="100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3"/>
                    </a:lnTo>
                    <a:lnTo>
                      <a:pt x="101" y="103"/>
                    </a:lnTo>
                    <a:lnTo>
                      <a:pt x="102" y="103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0"/>
                    </a:lnTo>
                    <a:lnTo>
                      <a:pt x="103" y="100"/>
                    </a:lnTo>
                    <a:lnTo>
                      <a:pt x="103" y="100"/>
                    </a:lnTo>
                    <a:lnTo>
                      <a:pt x="103" y="99"/>
                    </a:lnTo>
                    <a:lnTo>
                      <a:pt x="103" y="99"/>
                    </a:lnTo>
                    <a:lnTo>
                      <a:pt x="103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3" y="97"/>
                    </a:lnTo>
                    <a:lnTo>
                      <a:pt x="103" y="96"/>
                    </a:lnTo>
                    <a:lnTo>
                      <a:pt x="103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4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2"/>
                    </a:lnTo>
                    <a:lnTo>
                      <a:pt x="102" y="92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102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6" y="89"/>
                    </a:lnTo>
                    <a:lnTo>
                      <a:pt x="106" y="89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7" y="88"/>
                    </a:lnTo>
                    <a:lnTo>
                      <a:pt x="108" y="88"/>
                    </a:lnTo>
                    <a:lnTo>
                      <a:pt x="108" y="88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8" y="82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1" y="80"/>
                    </a:lnTo>
                    <a:lnTo>
                      <a:pt x="111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2" y="77"/>
                    </a:lnTo>
                    <a:lnTo>
                      <a:pt x="112" y="76"/>
                    </a:lnTo>
                    <a:lnTo>
                      <a:pt x="112" y="76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6"/>
                    </a:lnTo>
                    <a:lnTo>
                      <a:pt x="111" y="76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8" y="71"/>
                    </a:lnTo>
                    <a:lnTo>
                      <a:pt x="107" y="71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1"/>
                    </a:lnTo>
                    <a:lnTo>
                      <a:pt x="106" y="71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3" y="73"/>
                    </a:lnTo>
                    <a:lnTo>
                      <a:pt x="103" y="72"/>
                    </a:lnTo>
                    <a:lnTo>
                      <a:pt x="103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1" y="73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0" y="72"/>
                    </a:lnTo>
                    <a:lnTo>
                      <a:pt x="99" y="70"/>
                    </a:lnTo>
                    <a:lnTo>
                      <a:pt x="99" y="70"/>
                    </a:lnTo>
                    <a:lnTo>
                      <a:pt x="98" y="70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7" y="6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47720" y="2878560"/>
                <a:ext cx="1427400" cy="116100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41" y="71"/>
                    </a:moveTo>
                    <a:lnTo>
                      <a:pt x="41" y="72"/>
                    </a:lnTo>
                    <a:lnTo>
                      <a:pt x="41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6"/>
                    </a:lnTo>
                    <a:lnTo>
                      <a:pt x="42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4" y="75"/>
                    </a:lnTo>
                    <a:lnTo>
                      <a:pt x="44" y="75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48" y="74"/>
                    </a:lnTo>
                    <a:lnTo>
                      <a:pt x="48" y="75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6"/>
                    </a:lnTo>
                    <a:lnTo>
                      <a:pt x="49" y="76"/>
                    </a:lnTo>
                    <a:lnTo>
                      <a:pt x="49" y="75"/>
                    </a:lnTo>
                    <a:lnTo>
                      <a:pt x="50" y="76"/>
                    </a:lnTo>
                    <a:lnTo>
                      <a:pt x="50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3" y="79"/>
                    </a:lnTo>
                    <a:lnTo>
                      <a:pt x="53" y="79"/>
                    </a:lnTo>
                    <a:lnTo>
                      <a:pt x="54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7" y="82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80"/>
                    </a:lnTo>
                    <a:lnTo>
                      <a:pt x="62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2" y="80"/>
                    </a:lnTo>
                    <a:lnTo>
                      <a:pt x="62" y="81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64" y="81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1"/>
                    </a:lnTo>
                    <a:lnTo>
                      <a:pt x="67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70" y="81"/>
                    </a:lnTo>
                    <a:lnTo>
                      <a:pt x="70" y="81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79"/>
                    </a:lnTo>
                    <a:lnTo>
                      <a:pt x="72" y="79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3" y="78"/>
                    </a:lnTo>
                    <a:lnTo>
                      <a:pt x="73" y="78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6"/>
                    </a:lnTo>
                    <a:lnTo>
                      <a:pt x="73" y="76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3" y="74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3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75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3" y="70"/>
                    </a:lnTo>
                    <a:lnTo>
                      <a:pt x="73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69"/>
                    </a:lnTo>
                    <a:lnTo>
                      <a:pt x="74" y="68"/>
                    </a:lnTo>
                    <a:lnTo>
                      <a:pt x="74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6" y="67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5"/>
                    </a:lnTo>
                    <a:lnTo>
                      <a:pt x="76" y="65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3"/>
                    </a:lnTo>
                    <a:lnTo>
                      <a:pt x="77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6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49"/>
                    </a:lnTo>
                    <a:lnTo>
                      <a:pt x="77" y="49"/>
                    </a:lnTo>
                    <a:lnTo>
                      <a:pt x="77" y="48"/>
                    </a:lnTo>
                    <a:lnTo>
                      <a:pt x="77" y="48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7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7" y="46"/>
                    </a:lnTo>
                    <a:lnTo>
                      <a:pt x="77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80" y="42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3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3" y="21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4" y="20"/>
                    </a:lnTo>
                    <a:lnTo>
                      <a:pt x="73" y="20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20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8"/>
                    </a:lnTo>
                    <a:lnTo>
                      <a:pt x="63" y="9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1" y="52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2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9" y="61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6" y="65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1" y="67"/>
                    </a:lnTo>
                    <a:lnTo>
                      <a:pt x="21" y="67"/>
                    </a:lnTo>
                    <a:lnTo>
                      <a:pt x="21" y="66"/>
                    </a:lnTo>
                    <a:lnTo>
                      <a:pt x="21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8" y="71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4"/>
                    </a:lnTo>
                    <a:lnTo>
                      <a:pt x="39" y="74"/>
                    </a:lnTo>
                    <a:lnTo>
                      <a:pt x="41" y="73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1" y="7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79800" y="4581720"/>
                <a:ext cx="1734120" cy="1400760"/>
              </a:xfrm>
              <a:custGeom>
                <a:avLst/>
                <a:gdLst/>
                <a:ahLst/>
                <a:rect l="l" t="t" r="r" b="b"/>
                <a:pathLst>
                  <a:path w="103" h="99">
                    <a:moveTo>
                      <a:pt x="19" y="58"/>
                    </a:moveTo>
                    <a:lnTo>
                      <a:pt x="19" y="58"/>
                    </a:lnTo>
                    <a:lnTo>
                      <a:pt x="19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7" y="10"/>
                    </a:lnTo>
                    <a:lnTo>
                      <a:pt x="67" y="10"/>
                    </a:lnTo>
                    <a:lnTo>
                      <a:pt x="67" y="11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5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9" y="12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9"/>
                    </a:lnTo>
                    <a:lnTo>
                      <a:pt x="80" y="9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9" y="7"/>
                    </a:lnTo>
                    <a:lnTo>
                      <a:pt x="89" y="7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0"/>
                    </a:lnTo>
                    <a:lnTo>
                      <a:pt x="93" y="10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9" y="20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20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5"/>
                    </a:lnTo>
                    <a:lnTo>
                      <a:pt x="101" y="25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8"/>
                    </a:lnTo>
                    <a:lnTo>
                      <a:pt x="100" y="29"/>
                    </a:lnTo>
                    <a:lnTo>
                      <a:pt x="100" y="29"/>
                    </a:lnTo>
                    <a:lnTo>
                      <a:pt x="101" y="29"/>
                    </a:lnTo>
                    <a:lnTo>
                      <a:pt x="101" y="29"/>
                    </a:lnTo>
                    <a:lnTo>
                      <a:pt x="101" y="30"/>
                    </a:lnTo>
                    <a:lnTo>
                      <a:pt x="101" y="31"/>
                    </a:lnTo>
                    <a:lnTo>
                      <a:pt x="101" y="31"/>
                    </a:lnTo>
                    <a:lnTo>
                      <a:pt x="102" y="32"/>
                    </a:lnTo>
                    <a:lnTo>
                      <a:pt x="103" y="32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5"/>
                    </a:lnTo>
                    <a:lnTo>
                      <a:pt x="95" y="34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3"/>
                    </a:lnTo>
                    <a:lnTo>
                      <a:pt x="94" y="43"/>
                    </a:lnTo>
                    <a:lnTo>
                      <a:pt x="93" y="43"/>
                    </a:lnTo>
                    <a:lnTo>
                      <a:pt x="94" y="43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1" y="46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9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7" y="55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8" y="57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84" y="63"/>
                    </a:lnTo>
                    <a:lnTo>
                      <a:pt x="85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5" y="63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2" y="68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69"/>
                    </a:lnTo>
                    <a:lnTo>
                      <a:pt x="81" y="69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80" y="73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80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7" y="76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3" y="78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8" y="87"/>
                    </a:lnTo>
                    <a:lnTo>
                      <a:pt x="78" y="87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9"/>
                    </a:lnTo>
                    <a:lnTo>
                      <a:pt x="79" y="89"/>
                    </a:lnTo>
                    <a:lnTo>
                      <a:pt x="78" y="89"/>
                    </a:lnTo>
                    <a:lnTo>
                      <a:pt x="78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1"/>
                    </a:lnTo>
                    <a:lnTo>
                      <a:pt x="79" y="91"/>
                    </a:lnTo>
                    <a:lnTo>
                      <a:pt x="79" y="92"/>
                    </a:lnTo>
                    <a:lnTo>
                      <a:pt x="78" y="92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5" y="91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1" y="94"/>
                    </a:lnTo>
                    <a:lnTo>
                      <a:pt x="71" y="95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69" y="98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3" y="96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6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4"/>
                    </a:lnTo>
                    <a:lnTo>
                      <a:pt x="56" y="84"/>
                    </a:lnTo>
                    <a:lnTo>
                      <a:pt x="55" y="84"/>
                    </a:lnTo>
                    <a:lnTo>
                      <a:pt x="55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1" y="83"/>
                    </a:lnTo>
                    <a:lnTo>
                      <a:pt x="51" y="83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1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0" y="79"/>
                    </a:lnTo>
                    <a:lnTo>
                      <a:pt x="50" y="78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3" y="78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4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5"/>
                    </a:lnTo>
                    <a:lnTo>
                      <a:pt x="55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3"/>
                    </a:lnTo>
                    <a:lnTo>
                      <a:pt x="56" y="73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8" y="71"/>
                    </a:lnTo>
                    <a:lnTo>
                      <a:pt x="58" y="71"/>
                    </a:lnTo>
                    <a:lnTo>
                      <a:pt x="57" y="71"/>
                    </a:lnTo>
                    <a:lnTo>
                      <a:pt x="57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6"/>
                    </a:lnTo>
                    <a:lnTo>
                      <a:pt x="51" y="66"/>
                    </a:lnTo>
                    <a:lnTo>
                      <a:pt x="51" y="67"/>
                    </a:lnTo>
                    <a:lnTo>
                      <a:pt x="51" y="67"/>
                    </a:lnTo>
                    <a:lnTo>
                      <a:pt x="50" y="67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0" y="67"/>
                    </a:lnTo>
                    <a:lnTo>
                      <a:pt x="50" y="67"/>
                    </a:lnTo>
                    <a:lnTo>
                      <a:pt x="50" y="68"/>
                    </a:lnTo>
                    <a:lnTo>
                      <a:pt x="50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1" y="71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8" y="66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6" y="65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3"/>
                    </a:lnTo>
                    <a:lnTo>
                      <a:pt x="35" y="63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0" y="61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61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8"/>
                    </a:lnTo>
                    <a:lnTo>
                      <a:pt x="19" y="5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28280" y="5047920"/>
                <a:ext cx="1027800" cy="99936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11" y="34"/>
                    </a:moveTo>
                    <a:lnTo>
                      <a:pt x="11" y="34"/>
                    </a:lnTo>
                    <a:lnTo>
                      <a:pt x="12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8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8" y="47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9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0" y="55"/>
                    </a:lnTo>
                    <a:lnTo>
                      <a:pt x="21" y="54"/>
                    </a:lnTo>
                    <a:lnTo>
                      <a:pt x="21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3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29" y="51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1" y="55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5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9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5" y="69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6" y="71"/>
                    </a:lnTo>
                    <a:lnTo>
                      <a:pt x="37" y="71"/>
                    </a:lnTo>
                    <a:lnTo>
                      <a:pt x="38" y="70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2" y="68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4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9"/>
                    </a:lnTo>
                    <a:lnTo>
                      <a:pt x="44" y="59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2" y="54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6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3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6"/>
                    </a:lnTo>
                    <a:lnTo>
                      <a:pt x="58" y="36"/>
                    </a:lnTo>
                    <a:lnTo>
                      <a:pt x="58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9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6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7" y="18"/>
                    </a:lnTo>
                    <a:lnTo>
                      <a:pt x="58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23800" y="5078160"/>
                <a:ext cx="1122840" cy="1418040"/>
              </a:xfrm>
              <a:custGeom>
                <a:avLst/>
                <a:gdLst/>
                <a:ahLst/>
                <a:rect l="l" t="t" r="r" b="b"/>
                <a:pathLst>
                  <a:path w="67" h="100">
                    <a:moveTo>
                      <a:pt x="18" y="30"/>
                    </a:moveTo>
                    <a:lnTo>
                      <a:pt x="18" y="30"/>
                    </a:lnTo>
                    <a:lnTo>
                      <a:pt x="18" y="29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5"/>
                    </a:lnTo>
                    <a:lnTo>
                      <a:pt x="58" y="15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6" y="17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60" y="19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3" y="21"/>
                    </a:lnTo>
                    <a:lnTo>
                      <a:pt x="63" y="22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3"/>
                    </a:lnTo>
                    <a:lnTo>
                      <a:pt x="62" y="23"/>
                    </a:lnTo>
                    <a:lnTo>
                      <a:pt x="61" y="23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8"/>
                    </a:lnTo>
                    <a:lnTo>
                      <a:pt x="61" y="28"/>
                    </a:lnTo>
                    <a:lnTo>
                      <a:pt x="60" y="29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61" y="29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6" y="33"/>
                    </a:lnTo>
                    <a:lnTo>
                      <a:pt x="66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3" y="39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51" y="39"/>
                    </a:lnTo>
                    <a:lnTo>
                      <a:pt x="51" y="39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51" y="40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1" y="42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8" y="43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7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5" y="47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47" y="49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5"/>
                    </a:lnTo>
                    <a:lnTo>
                      <a:pt x="46" y="55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44" y="55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7"/>
                    </a:lnTo>
                    <a:lnTo>
                      <a:pt x="44" y="57"/>
                    </a:lnTo>
                    <a:lnTo>
                      <a:pt x="43" y="57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7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6"/>
                    </a:lnTo>
                    <a:lnTo>
                      <a:pt x="42" y="67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2"/>
                    </a:lnTo>
                    <a:lnTo>
                      <a:pt x="44" y="72"/>
                    </a:lnTo>
                    <a:lnTo>
                      <a:pt x="45" y="72"/>
                    </a:lnTo>
                    <a:lnTo>
                      <a:pt x="45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3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5"/>
                    </a:lnTo>
                    <a:lnTo>
                      <a:pt x="47" y="76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7"/>
                    </a:lnTo>
                    <a:lnTo>
                      <a:pt x="49" y="77"/>
                    </a:lnTo>
                    <a:lnTo>
                      <a:pt x="49" y="76"/>
                    </a:lnTo>
                    <a:lnTo>
                      <a:pt x="50" y="76"/>
                    </a:lnTo>
                    <a:lnTo>
                      <a:pt x="50" y="77"/>
                    </a:lnTo>
                    <a:lnTo>
                      <a:pt x="50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6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5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0" y="98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37" y="99"/>
                    </a:lnTo>
                    <a:lnTo>
                      <a:pt x="37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7" y="97"/>
                    </a:lnTo>
                    <a:lnTo>
                      <a:pt x="37" y="97"/>
                    </a:lnTo>
                    <a:lnTo>
                      <a:pt x="36" y="97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2" y="92"/>
                    </a:lnTo>
                    <a:lnTo>
                      <a:pt x="32" y="92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1" y="91"/>
                    </a:lnTo>
                    <a:lnTo>
                      <a:pt x="31" y="91"/>
                    </a:lnTo>
                    <a:lnTo>
                      <a:pt x="31" y="90"/>
                    </a:lnTo>
                    <a:lnTo>
                      <a:pt x="31" y="90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8"/>
                    </a:lnTo>
                    <a:lnTo>
                      <a:pt x="31" y="88"/>
                    </a:lnTo>
                    <a:lnTo>
                      <a:pt x="30" y="87"/>
                    </a:lnTo>
                    <a:lnTo>
                      <a:pt x="30" y="87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4" y="82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3" y="81"/>
                    </a:lnTo>
                    <a:lnTo>
                      <a:pt x="23" y="81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2" y="79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4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1" y="71"/>
                    </a:lnTo>
                    <a:lnTo>
                      <a:pt x="20" y="71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19" y="70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8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8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1" y="62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6" y="55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6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2250360"/>
                <a:ext cx="1569960" cy="1694520"/>
              </a:xfrm>
              <a:custGeom>
                <a:avLst/>
                <a:gdLst/>
                <a:ahLst/>
                <a:rect l="l" t="t" r="r" b="b"/>
                <a:pathLst>
                  <a:path w="93" h="119">
                    <a:moveTo>
                      <a:pt x="87" y="34"/>
                    </a:move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29"/>
                    </a:lnTo>
                    <a:lnTo>
                      <a:pt x="87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7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5" y="26"/>
                    </a:lnTo>
                    <a:lnTo>
                      <a:pt x="85" y="26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6" y="19"/>
                    </a:lnTo>
                    <a:lnTo>
                      <a:pt x="87" y="19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7"/>
                    </a:lnTo>
                    <a:lnTo>
                      <a:pt x="87" y="16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4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0"/>
                    </a:lnTo>
                    <a:lnTo>
                      <a:pt x="86" y="10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6" y="8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5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1" y="0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79" y="1"/>
                    </a:lnTo>
                    <a:lnTo>
                      <a:pt x="79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7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4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0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9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8" y="84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3" y="96"/>
                    </a:lnTo>
                    <a:lnTo>
                      <a:pt x="2" y="97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9"/>
                    </a:lnTo>
                    <a:lnTo>
                      <a:pt x="6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2"/>
                    </a:lnTo>
                    <a:lnTo>
                      <a:pt x="9" y="111"/>
                    </a:lnTo>
                    <a:lnTo>
                      <a:pt x="10" y="112"/>
                    </a:lnTo>
                    <a:lnTo>
                      <a:pt x="10" y="112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1" y="113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5"/>
                    </a:lnTo>
                    <a:lnTo>
                      <a:pt x="12" y="115"/>
                    </a:lnTo>
                    <a:lnTo>
                      <a:pt x="12" y="114"/>
                    </a:lnTo>
                    <a:lnTo>
                      <a:pt x="12" y="115"/>
                    </a:lnTo>
                    <a:lnTo>
                      <a:pt x="12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7" y="118"/>
                    </a:lnTo>
                    <a:lnTo>
                      <a:pt x="17" y="118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1" y="117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3" y="114"/>
                    </a:lnTo>
                    <a:lnTo>
                      <a:pt x="23" y="114"/>
                    </a:lnTo>
                    <a:lnTo>
                      <a:pt x="23" y="113"/>
                    </a:lnTo>
                    <a:lnTo>
                      <a:pt x="23" y="113"/>
                    </a:lnTo>
                    <a:lnTo>
                      <a:pt x="23" y="112"/>
                    </a:lnTo>
                    <a:lnTo>
                      <a:pt x="23" y="112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7" y="103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1" y="104"/>
                    </a:lnTo>
                    <a:lnTo>
                      <a:pt x="31" y="104"/>
                    </a:lnTo>
                    <a:lnTo>
                      <a:pt x="31" y="103"/>
                    </a:lnTo>
                    <a:lnTo>
                      <a:pt x="31" y="103"/>
                    </a:lnTo>
                    <a:lnTo>
                      <a:pt x="31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3" y="105"/>
                    </a:lnTo>
                    <a:lnTo>
                      <a:pt x="36" y="103"/>
                    </a:lnTo>
                    <a:lnTo>
                      <a:pt x="36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8" y="102"/>
                    </a:lnTo>
                    <a:lnTo>
                      <a:pt x="39" y="101"/>
                    </a:lnTo>
                    <a:lnTo>
                      <a:pt x="40" y="101"/>
                    </a:lnTo>
                    <a:lnTo>
                      <a:pt x="40" y="101"/>
                    </a:lnTo>
                    <a:lnTo>
                      <a:pt x="41" y="101"/>
                    </a:lnTo>
                    <a:lnTo>
                      <a:pt x="41" y="100"/>
                    </a:lnTo>
                    <a:lnTo>
                      <a:pt x="41" y="100"/>
                    </a:lnTo>
                    <a:lnTo>
                      <a:pt x="40" y="100"/>
                    </a:lnTo>
                    <a:lnTo>
                      <a:pt x="40" y="100"/>
                    </a:lnTo>
                    <a:lnTo>
                      <a:pt x="40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7"/>
                    </a:lnTo>
                    <a:lnTo>
                      <a:pt x="39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8"/>
                    </a:lnTo>
                    <a:lnTo>
                      <a:pt x="41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7"/>
                    </a:lnTo>
                    <a:lnTo>
                      <a:pt x="42" y="97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4" y="95"/>
                    </a:lnTo>
                    <a:lnTo>
                      <a:pt x="44" y="95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4"/>
                    </a:lnTo>
                    <a:lnTo>
                      <a:pt x="47" y="94"/>
                    </a:lnTo>
                    <a:lnTo>
                      <a:pt x="47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9" y="94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2" y="95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4"/>
                    </a:lnTo>
                    <a:lnTo>
                      <a:pt x="54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1"/>
                    </a:lnTo>
                    <a:lnTo>
                      <a:pt x="56" y="91"/>
                    </a:lnTo>
                    <a:lnTo>
                      <a:pt x="55" y="91"/>
                    </a:lnTo>
                    <a:lnTo>
                      <a:pt x="55" y="91"/>
                    </a:lnTo>
                    <a:lnTo>
                      <a:pt x="55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8" y="88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60" y="87"/>
                    </a:lnTo>
                    <a:lnTo>
                      <a:pt x="60" y="87"/>
                    </a:lnTo>
                    <a:lnTo>
                      <a:pt x="61" y="87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92"/>
                    </a:lnTo>
                    <a:lnTo>
                      <a:pt x="70" y="92"/>
                    </a:lnTo>
                    <a:lnTo>
                      <a:pt x="70" y="92"/>
                    </a:lnTo>
                    <a:lnTo>
                      <a:pt x="71" y="91"/>
                    </a:lnTo>
                    <a:lnTo>
                      <a:pt x="71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89"/>
                    </a:lnTo>
                    <a:lnTo>
                      <a:pt x="74" y="89"/>
                    </a:lnTo>
                    <a:lnTo>
                      <a:pt x="75" y="89"/>
                    </a:lnTo>
                    <a:lnTo>
                      <a:pt x="75" y="89"/>
                    </a:lnTo>
                    <a:lnTo>
                      <a:pt x="75" y="88"/>
                    </a:lnTo>
                    <a:lnTo>
                      <a:pt x="74" y="88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6" y="86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3"/>
                    </a:lnTo>
                    <a:lnTo>
                      <a:pt x="77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78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80" y="83"/>
                    </a:lnTo>
                    <a:lnTo>
                      <a:pt x="80" y="83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2" y="79"/>
                    </a:lnTo>
                    <a:lnTo>
                      <a:pt x="82" y="79"/>
                    </a:lnTo>
                    <a:lnTo>
                      <a:pt x="82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1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79"/>
                    </a:lnTo>
                    <a:lnTo>
                      <a:pt x="83" y="79"/>
                    </a:lnTo>
                    <a:lnTo>
                      <a:pt x="83" y="79"/>
                    </a:lnTo>
                    <a:lnTo>
                      <a:pt x="83" y="78"/>
                    </a:lnTo>
                    <a:lnTo>
                      <a:pt x="83" y="78"/>
                    </a:lnTo>
                    <a:lnTo>
                      <a:pt x="84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4" y="77"/>
                    </a:lnTo>
                    <a:lnTo>
                      <a:pt x="84" y="77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5" y="76"/>
                    </a:lnTo>
                    <a:lnTo>
                      <a:pt x="85" y="76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4" y="73"/>
                    </a:lnTo>
                    <a:lnTo>
                      <a:pt x="84" y="73"/>
                    </a:lnTo>
                    <a:lnTo>
                      <a:pt x="83" y="73"/>
                    </a:lnTo>
                    <a:lnTo>
                      <a:pt x="83" y="72"/>
                    </a:lnTo>
                    <a:lnTo>
                      <a:pt x="83" y="72"/>
                    </a:lnTo>
                    <a:lnTo>
                      <a:pt x="82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0" y="72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6" y="66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80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4" y="64"/>
                    </a:lnTo>
                    <a:lnTo>
                      <a:pt x="84" y="64"/>
                    </a:lnTo>
                    <a:lnTo>
                      <a:pt x="84" y="63"/>
                    </a:lnTo>
                    <a:lnTo>
                      <a:pt x="84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0"/>
                    </a:lnTo>
                    <a:lnTo>
                      <a:pt x="86" y="60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7" y="56"/>
                    </a:lnTo>
                    <a:lnTo>
                      <a:pt x="86" y="56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0" y="52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48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0" y="44"/>
                    </a:lnTo>
                    <a:lnTo>
                      <a:pt x="90" y="44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1" y="41"/>
                    </a:lnTo>
                    <a:lnTo>
                      <a:pt x="91" y="41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0"/>
                    </a:lnTo>
                    <a:lnTo>
                      <a:pt x="93" y="40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2" y="38"/>
                    </a:lnTo>
                    <a:lnTo>
                      <a:pt x="92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0" y="38"/>
                    </a:lnTo>
                    <a:lnTo>
                      <a:pt x="90" y="38"/>
                    </a:lnTo>
                    <a:lnTo>
                      <a:pt x="90" y="37"/>
                    </a:lnTo>
                    <a:lnTo>
                      <a:pt x="89" y="37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84840" y="1982880"/>
                <a:ext cx="1628280" cy="115272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26" y="6"/>
                    </a:moveTo>
                    <a:lnTo>
                      <a:pt x="26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6" y="78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31" y="76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3" y="75"/>
                    </a:lnTo>
                    <a:lnTo>
                      <a:pt x="33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37" y="70"/>
                    </a:lnTo>
                    <a:lnTo>
                      <a:pt x="37" y="70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4" y="65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3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5"/>
                    </a:lnTo>
                    <a:lnTo>
                      <a:pt x="51" y="65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59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9"/>
                    </a:lnTo>
                    <a:lnTo>
                      <a:pt x="63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6" y="68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7"/>
                    </a:lnTo>
                    <a:lnTo>
                      <a:pt x="69" y="66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1" y="66"/>
                    </a:lnTo>
                    <a:lnTo>
                      <a:pt x="71" y="67"/>
                    </a:lnTo>
                    <a:lnTo>
                      <a:pt x="70" y="67"/>
                    </a:lnTo>
                    <a:lnTo>
                      <a:pt x="70" y="68"/>
                    </a:lnTo>
                    <a:lnTo>
                      <a:pt x="70" y="69"/>
                    </a:lnTo>
                    <a:lnTo>
                      <a:pt x="70" y="69"/>
                    </a:lnTo>
                    <a:lnTo>
                      <a:pt x="70" y="70"/>
                    </a:lnTo>
                    <a:lnTo>
                      <a:pt x="70" y="71"/>
                    </a:lnTo>
                    <a:lnTo>
                      <a:pt x="71" y="71"/>
                    </a:lnTo>
                    <a:lnTo>
                      <a:pt x="72" y="71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9" y="71"/>
                    </a:lnTo>
                    <a:lnTo>
                      <a:pt x="80" y="71"/>
                    </a:lnTo>
                    <a:lnTo>
                      <a:pt x="82" y="71"/>
                    </a:lnTo>
                    <a:lnTo>
                      <a:pt x="84" y="72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69"/>
                    </a:lnTo>
                    <a:lnTo>
                      <a:pt x="84" y="68"/>
                    </a:lnTo>
                    <a:lnTo>
                      <a:pt x="84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6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6" y="64"/>
                    </a:lnTo>
                    <a:lnTo>
                      <a:pt x="86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91" y="57"/>
                    </a:lnTo>
                    <a:lnTo>
                      <a:pt x="91" y="57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3" y="58"/>
                    </a:lnTo>
                    <a:lnTo>
                      <a:pt x="93" y="59"/>
                    </a:lnTo>
                    <a:lnTo>
                      <a:pt x="94" y="57"/>
                    </a:lnTo>
                    <a:lnTo>
                      <a:pt x="93" y="57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4" y="49"/>
                    </a:lnTo>
                    <a:lnTo>
                      <a:pt x="94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2" y="49"/>
                    </a:lnTo>
                    <a:lnTo>
                      <a:pt x="92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50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8"/>
                    </a:lnTo>
                    <a:lnTo>
                      <a:pt x="89" y="48"/>
                    </a:lnTo>
                    <a:lnTo>
                      <a:pt x="89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6"/>
                    </a:lnTo>
                    <a:lnTo>
                      <a:pt x="90" y="46"/>
                    </a:lnTo>
                    <a:lnTo>
                      <a:pt x="89" y="46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6" y="45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5"/>
                    </a:lnTo>
                    <a:lnTo>
                      <a:pt x="86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4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3"/>
                    </a:lnTo>
                    <a:lnTo>
                      <a:pt x="85" y="33"/>
                    </a:lnTo>
                    <a:lnTo>
                      <a:pt x="84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3" y="31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5" y="29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8" y="27"/>
                    </a:lnTo>
                    <a:lnTo>
                      <a:pt x="89" y="27"/>
                    </a:lnTo>
                    <a:lnTo>
                      <a:pt x="90" y="26"/>
                    </a:lnTo>
                    <a:lnTo>
                      <a:pt x="92" y="24"/>
                    </a:lnTo>
                    <a:lnTo>
                      <a:pt x="94" y="23"/>
                    </a:lnTo>
                    <a:lnTo>
                      <a:pt x="95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4" y="20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4" y="27"/>
                    </a:lnTo>
                    <a:lnTo>
                      <a:pt x="74" y="27"/>
                    </a:lnTo>
                    <a:lnTo>
                      <a:pt x="73" y="27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7"/>
                    </a:lnTo>
                    <a:lnTo>
                      <a:pt x="69" y="27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4"/>
                    </a:lnTo>
                    <a:lnTo>
                      <a:pt x="63" y="24"/>
                    </a:lnTo>
                    <a:lnTo>
                      <a:pt x="63" y="25"/>
                    </a:lnTo>
                    <a:lnTo>
                      <a:pt x="63" y="24"/>
                    </a:lnTo>
                    <a:lnTo>
                      <a:pt x="62" y="24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0" y="23"/>
                    </a:lnTo>
                    <a:lnTo>
                      <a:pt x="60" y="22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59" y="18"/>
                    </a:lnTo>
                    <a:lnTo>
                      <a:pt x="60" y="18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6" y="4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5" y="10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7" y="12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4" y="8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61640" y="3487320"/>
                <a:ext cx="1114200" cy="1476360"/>
              </a:xfrm>
              <a:custGeom>
                <a:avLst/>
                <a:gdLst/>
                <a:ahLst/>
                <a:rect l="l" t="t" r="r" b="b"/>
                <a:pathLst>
                  <a:path w="66" h="104">
                    <a:moveTo>
                      <a:pt x="49" y="64"/>
                    </a:moveTo>
                    <a:lnTo>
                      <a:pt x="49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2"/>
                    </a:lnTo>
                    <a:lnTo>
                      <a:pt x="50" y="62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7" y="61"/>
                    </a:lnTo>
                    <a:lnTo>
                      <a:pt x="47" y="61"/>
                    </a:lnTo>
                    <a:lnTo>
                      <a:pt x="46" y="61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7"/>
                    </a:lnTo>
                    <a:lnTo>
                      <a:pt x="46" y="57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55"/>
                    </a:lnTo>
                    <a:lnTo>
                      <a:pt x="46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5" y="53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5" y="50"/>
                    </a:lnTo>
                    <a:lnTo>
                      <a:pt x="46" y="49"/>
                    </a:lnTo>
                    <a:lnTo>
                      <a:pt x="46" y="49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6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4" y="24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9"/>
                    </a:lnTo>
                    <a:lnTo>
                      <a:pt x="25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8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2" y="94"/>
                    </a:lnTo>
                    <a:lnTo>
                      <a:pt x="32" y="94"/>
                    </a:lnTo>
                    <a:lnTo>
                      <a:pt x="32" y="95"/>
                    </a:lnTo>
                    <a:lnTo>
                      <a:pt x="32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4" y="95"/>
                    </a:lnTo>
                    <a:lnTo>
                      <a:pt x="34" y="94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4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9"/>
                    </a:lnTo>
                    <a:lnTo>
                      <a:pt x="39" y="98"/>
                    </a:lnTo>
                    <a:lnTo>
                      <a:pt x="39" y="99"/>
                    </a:lnTo>
                    <a:lnTo>
                      <a:pt x="39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3" y="92"/>
                    </a:lnTo>
                    <a:lnTo>
                      <a:pt x="43" y="92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6" y="91"/>
                    </a:lnTo>
                    <a:lnTo>
                      <a:pt x="46" y="90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6" y="85"/>
                    </a:lnTo>
                    <a:lnTo>
                      <a:pt x="47" y="85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8" y="79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1" y="84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4"/>
                    </a:lnTo>
                    <a:lnTo>
                      <a:pt x="62" y="84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2"/>
                    </a:lnTo>
                    <a:lnTo>
                      <a:pt x="64" y="82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5" y="79"/>
                    </a:lnTo>
                    <a:lnTo>
                      <a:pt x="65" y="79"/>
                    </a:lnTo>
                    <a:lnTo>
                      <a:pt x="65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6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2" y="72"/>
                    </a:lnTo>
                    <a:lnTo>
                      <a:pt x="62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0" y="70"/>
                    </a:lnTo>
                    <a:lnTo>
                      <a:pt x="60" y="70"/>
                    </a:lnTo>
                    <a:lnTo>
                      <a:pt x="60" y="71"/>
                    </a:lnTo>
                    <a:lnTo>
                      <a:pt x="60" y="71"/>
                    </a:lnTo>
                    <a:lnTo>
                      <a:pt x="60" y="72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58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6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8"/>
                    </a:lnTo>
                    <a:lnTo>
                      <a:pt x="55" y="68"/>
                    </a:lnTo>
                    <a:lnTo>
                      <a:pt x="56" y="68"/>
                    </a:lnTo>
                    <a:lnTo>
                      <a:pt x="56" y="68"/>
                    </a:lnTo>
                    <a:lnTo>
                      <a:pt x="56" y="67"/>
                    </a:lnTo>
                    <a:lnTo>
                      <a:pt x="56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2762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33760" y="2440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19480" y="25542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910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91160" y="3811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6480" y="32400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90680" y="3925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2160" y="4154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2080" y="4954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62360" y="5297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8160" y="541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48080" y="5869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91080" y="57546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196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76680" y="5068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22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3480" y="6326280"/>
              <a:ext cx="8002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ykonane zabieg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ku 2008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nan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2.30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biodr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4.49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26.425 endoprotez całkowitych, 8.073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kolan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77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.220 endoprotez całkowitych, 557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łokciowego –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ramienn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innych stawów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lanty kręgosłupa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68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4 świadczeniodawców wykonało ponad 150 wszczepów endoprotez biodrowych. Są to głównie szpitale kliniczn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27% świadczeniodawców dokonujących alloplastyk stawu biodrowego wykonało w ciągu 2008 roku mniej niż 50 tego rodzaju operacji, a 4 świadczeniodawców wszczepiło mniej niż 10 endoprotez stawu biodrow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291 świadczeniodawców 27 placówek dokonało wyłącznie wszczepów części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biodr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dzielny Publiczny Szpital Kliniczny im. Prof. A. Gruc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twocku – 1.191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66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-Rehabilitacyjny Szpital Kliniczny im. Wiktora Degi Uniwersytetu Medycznego Poznań-Wilda – 818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eracje rewizyjne stanowi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rejestrowanych w roku 2008 wszczepów endoprotez stawu biodr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cej operacji rewizyjnych w zakresie endoprotezoplastyki stawu biodrowego wykona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 Kliniczny Dzieciątka Jezus  w Warszawie – 1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Kliniczny im. Prof. A. Grucy w Otwocku – 9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24"/>
              </a:spcBef>
              <a:spcAft>
                <a:spcPts val="524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9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świadczeniodawców wszczepiło w 2008 roku więcej niż 150 endoprotez stawu kolan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74% ze wszystkich 179 świadczeniodawców wykonało mniej niż 50 alloplastyk stawu kolanowego w ciągu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7 wykonało mniej niż 25 wszcze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kolan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 - Rehabilitacyjny Szpital Kliniczny im. Wiktora Degi Uniwersytetu Medycznego w Poznaniu-Wildzie – 407 zabiegów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akowskie Centrum Rehabilitacji w Krakowie – 294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publiczny Zakład Opieki Zdrowotnej Szpital Specjalistyczn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. Świętej Rodziny w Rudnej Małej w województwie podkarpackim – 225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Implanty kręgosłup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zczepiających największą liczbę implantów kręgosłup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667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 Wojskowy Szpital Kliniczny z Polikliniką - SP ZOZ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Bydgoszczy – 626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cki Szpital Ortopedyczno-Rehabilitacyjny w Zakopanem – 506 proced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rzyczyny operacj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biodr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koksartroza (M16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amanie szyjki kości udowej (S72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koksartrozy (M16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kolan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gonartroza (M17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gonartrozy (M17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spcAft>
                <a:spcPts val="112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uzdrowisk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50% poradni nie czeka się na wizytę dłużej niż: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neurologa – 1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ologa – 16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alergologa – 17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chirurga ortopedy – 19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kulisty – 19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kardiologa – 4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endokrynologa – 50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463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poradni dermatologicznych, laryngologicz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ginekologiczno-położnicz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czas oczekiwania na przyjęcie do oddziału szpitalnego u 50% świadczeniodawców nie jest dłuższy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urazowo-ortopedycznej – 48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tolaryngologicznego – 5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ogólnej – 14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kulistycznego – 3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reumatologicznego – 79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urologicznego – 15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gastroenterologicznego – 27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plastycznej – 52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oddziałów chorób wewnętrznych i chirurgii jednego dn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 50% świadczeniodawców, na wykonanie badań diagnostycznych nie czeka się dłużej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tomografię komputerową – 27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echokardiografię – 11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rezonans magnetyczny – 70 d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NFZ</cp:lastModifiedBy>
  <dcterms:modified xsi:type="dcterms:W3CDTF">2009-08-17T10:11:46Z</dcterms:modified>
  <cp:revision>57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