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117C-3E4C-48B8-81A6-735D817B9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6CEB-F52B-4636-8151-5D2F0F961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2C1E-7BF1-4760-9762-FC9F9AF57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0A4D-6CEA-4B1D-9CF6-7E7C98DF7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89A5-7A8D-4E18-ABDA-6D7C6C2A4E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76E0-B0E5-4EC9-AEAF-DC23457C91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AA07-EF44-4788-9CD6-54F89373A6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974D3-93A8-4A4C-B513-572534EC66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19F3-B7F5-4A46-91E7-1896059969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B6FA-66BB-4B1B-9214-63CCC1558F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3FC6-B39A-4129-B055-A63DF50F90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7A8C-F503-479E-B1A1-76DB995E2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D689-70AC-4C0C-AEA6-F059BFD259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C563E-9A2D-47E1-944F-3B481B1D15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A16A-8BB8-4E30-8638-9599B8B48F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8EE4A-47BB-4558-9975-95B202EA19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6D39-F1BA-4BB4-8E93-158CC3329B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829-58A4-4CF7-B163-9D0AA3FF5E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4A6-DB52-48FE-8C19-8F0867E4F03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4B5-AF2D-4E77-8BEB-1681931982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2BD-D0B0-4C2A-A4FC-41EA3DF7DC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11D-8C4E-4A15-B8F8-AA620758A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C868-562A-4B40-918C-F4E90E82B3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445-E3C4-4A28-AD5B-6D6D1AD79F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59C-FA9F-4F3F-B659-73334FD9E6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3FD-9999-4241-A1D2-D8EF4CC8C2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1E4-6202-4C70-A934-333D61863F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D5B-C648-4CF1-A662-0AC8D221E2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D99A-7121-4B99-A7E8-321A9F8913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3864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15160" y="190476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6212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3864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15160" y="4093920"/>
            <a:ext cx="2453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C61-E187-4786-8727-20357139A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E1C5-D736-444A-946D-E65CC7D6D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B022-3CB8-4E67-8223-0BC57C0EB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2C13-3677-45B9-B262-A24168D9A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3F1D0-E093-4FBE-9268-BE15E171C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6320" y="409392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F599-9C29-482E-9EA0-618E372A1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6320" y="1904760"/>
            <a:ext cx="371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093920"/>
            <a:ext cx="761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17BC-77DD-47B4-9F6E-FE9CE96D4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C61E-2C09-4251-9DC6-911BCADC003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40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43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5732-D25C-4391-9B50-40B6A1C916C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7"/>
          <p:cNvGrpSpPr/>
          <p:nvPr/>
        </p:nvGrpSpPr>
        <p:grpSpPr>
          <a:xfrm>
            <a:off x="380880" y="6400800"/>
            <a:ext cx="685440" cy="228600"/>
            <a:chOff x="380880" y="6400800"/>
            <a:chExt cx="685440" cy="228600"/>
          </a:xfrm>
        </p:grpSpPr>
        <p:sp>
          <p:nvSpPr>
            <p:cNvPr id="84" name="Freeform 8"/>
            <p:cNvSpPr/>
            <p:nvPr/>
          </p:nvSpPr>
          <p:spPr>
            <a:xfrm>
              <a:off x="844200" y="6400800"/>
              <a:ext cx="22212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635040" y="6400800"/>
              <a:ext cx="216360" cy="223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380880" y="6400800"/>
              <a:ext cx="24084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buClr>
                  <a:srgbClr val="f7fd0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af39"/>
                </a:solidFill>
                <a:latin typeface="Times New Roman"/>
              </a:endParaRPr>
            </a:p>
          </p:txBody>
        </p:sp>
      </p:grpSp>
      <p:sp>
        <p:nvSpPr>
          <p:cNvPr id="87" name="Text Box 11"/>
          <p:cNvSpPr/>
          <p:nvPr/>
        </p:nvSpPr>
        <p:spPr>
          <a:xfrm>
            <a:off x="1295280" y="63244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Zachodniopomorski Oddział Wojewódzki</a:t>
            </a:r>
            <a:endParaRPr b="1" lang="en-US" sz="18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af3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7fd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7fd0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7DAE-0DCB-404B-A6A0-7A1BA5BA1A0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6CD2-E614-4722-9BD7-9C7347DA2CF2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Personalne listy pacjentów oczekujących </a:t>
            </a:r>
            <a:br>
              <a:rPr sz="3200"/>
            </a:br>
            <a:r>
              <a:rPr b="1" lang="pl-PL" sz="3200" spc="-1" strike="noStrike">
                <a:solidFill>
                  <a:srgbClr val="ffaf39"/>
                </a:solidFill>
                <a:latin typeface="Times New Roman"/>
              </a:rPr>
              <a:t>na wybrane świadczenia opieki zdrowotnej    </a:t>
            </a:r>
            <a:endParaRPr b="1" lang="en-US" sz="32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434340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Angelika Milkiewicz-Ławicka 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czelnik Wydziału Spraw Świadczeniobiorców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Zachodniopomorski Oddział Wojewódzki  NFZ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Szczecin, 18 września 2009</a:t>
            </a:r>
            <a:endParaRPr b="1" lang="en-US" sz="2000" spc="-1" strike="noStrike">
              <a:solidFill>
                <a:srgbClr val="ffaf39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087560" y="3684600"/>
            <a:ext cx="71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af39"/>
                </a:solidFill>
                <a:latin typeface="Times New Roman"/>
              </a:rPr>
              <a:t>Seminarium z udziałem Federacji Pacjentów Polskich</a:t>
            </a:r>
            <a:endParaRPr b="1" lang="en-US" sz="2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Cel prowadzenia personalnych list pacjentów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868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 głów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ówny, niedyskryminujący i przejrzysty dostęp do świadcze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Cele szczegół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monitorowanie czasu oczekiwania na świadczeni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a dostępności do lecz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zetelna informacja dla pacjentó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ciwdziałanie korupcj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kreślania zapotrzebowania na świadczenia zdrowot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owadzenie listy jest obowiązkiem ustawowy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Arial"/>
              </a:rPr>
              <a:t>Zasady zapisywania na listę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5880" y="1371600"/>
            <a:ext cx="76197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dzielanie świadczeń według kolejności zgłoszen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2. Wpis na listę oczekujących wg. kategorii medycznej, od  której zależy termin realizacji świadczen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pilny – ze względu na dynamikę procesu chorobowego i możliwość szybkiego pogorszenia stanu zdrowia lub znaczącego zmniejszenia szans na powrót do zdrow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26920" indent="-285480">
              <a:lnSpc>
                <a:spcPct val="100000"/>
              </a:lnSpc>
              <a:buClr>
                <a:srgbClr val="ff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ypadek stabil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3. Nagłe pogorszenie stanu zdrowia - prawo do zmi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terminu lecze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4. Prowadzenie wpisów - na bieżąco, w dniu zgłoszenia do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Przekazywanie do NFZ personalnych list pacjentów z dokładnością do numeru PESEL 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6765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kwietnia 2008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na endoprotezoplastykę stawu biodrowego i kolan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szczepianie implantów kręgosłu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Od 1 stycznia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usunięcia zać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angioplasty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572E-2DA6-42C3-9D98-2B0ED3C18D47}" type="slidenum">
              <a:rPr b="0" lang="pl-PL" sz="1400" spc="-1" strike="noStrike">
                <a:solidFill>
                  <a:srgbClr val="ffaf3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af3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Przypadki </a:t>
            </a:r>
            <a:r>
              <a:rPr b="1" lang="pl-PL" sz="3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wykreślone</a:t>
            </a:r>
            <a:r>
              <a:rPr b="1" lang="pl-PL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 z listy oczekujących w efekcie  weryfikacji prowadzonej od kwietnia 2008 -  do czerwca 2009</a:t>
            </a: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 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76201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838080" y="2057400"/>
          <a:ext cx="7283520" cy="33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2835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Efekt weryfikacji personalnych list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zwoliła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usunąć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z list oczekujących na endoprotezoplastykę 1.194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PESELE powtarzające się więcej niż dwa raz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Weryfikacja pokazała, że średni wykazywany czas oczekiwania wynoszący 1.089 dni jest w rzeczywistości prawie trzy razy krótszy i </a:t>
            </a:r>
            <a:r>
              <a:rPr b="1" lang="pl-PL" sz="24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wynosi  329 dni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Fundusz nie finansuje planowych zabiegów endoprotezoplastyki, które wykonano z pominięciem list oczekując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pl-PL" sz="3800" spc="-1" strike="noStrike">
                <a:solidFill>
                  <a:srgbClr val="ffaf39"/>
                </a:solidFill>
                <a:latin typeface="Times New Roman"/>
              </a:rPr>
              <a:t>Obecny czas oczekiwania na endoprotezę </a:t>
            </a:r>
            <a:br>
              <a:rPr sz="3800"/>
            </a:br>
            <a:endParaRPr b="1" lang="en-US" sz="38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biodrowe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6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6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n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105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- 351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tawu kolan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 4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do 700 dn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lne- 100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ilne – 288 d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af39"/>
                </a:solidFill>
                <a:latin typeface="Times New Roman"/>
              </a:rPr>
              <a:t>Korzyści z personalizacji list</a:t>
            </a:r>
            <a:endParaRPr b="1" lang="en-US" sz="3000" spc="-1" strike="noStrike">
              <a:solidFill>
                <a:srgbClr val="ffaf3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zetelna i wiarygodna informacja o udzielanych świadczeniach zarówno dla pacjenta, jak i dla NF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ane rzeczywiste, a nie orientacyj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Realne skrócenie czasu oczekiwania na wykonanie świadczenia poprzez możliwość wyboru świadczeniodaw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zięki identyfikacji pacjenta – realne skrócenie list oczekujących (pacjent oczekujący do jednego, a nie do kilku świadczeniodawców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9T07:43:08Z</dcterms:created>
  <dc:creator>MZydorowicz Biuro Dyrektora</dc:creator>
  <dc:description/>
  <dc:language>en-US</dc:language>
  <cp:lastModifiedBy>MKoszur</cp:lastModifiedBy>
  <cp:lastPrinted>2005-05-18T05:49:40Z</cp:lastPrinted>
  <dcterms:modified xsi:type="dcterms:W3CDTF">2009-09-18T13:26:13Z</dcterms:modified>
  <cp:revision>680</cp:revision>
  <dc:subject/>
  <dc:title>Prezentacja programu PowerPoint</dc:title>
</cp:coreProperties>
</file>