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F937-E3CF-4FE8-B4A3-BE8B712F3EF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CA63-DE26-4C2D-AC83-FA76DA03061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3075-8D98-4952-8D43-C59423F3102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6FD0-51BE-4362-81B3-7F857026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A4A-BE84-42EE-85EA-50456043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C84-B041-4F34-A69C-E3ACBCD3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DD1-0066-411F-BB4D-0FADF97B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C24-F99A-4E81-9261-AF1A5794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4F6344-328A-4A9F-A8A2-025616A5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A69AED-93D4-4CB0-8E7E-7F54C751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E823EE-FA01-43F0-BC9C-1B9F2478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077882-0144-47B4-839E-086D5702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5DEF64-F307-41BB-8324-6EB4DCC8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5A5-7F20-4186-ADF8-7B4AE6E4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9A004E-17C8-43BC-848E-43E82A53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AD4924-C806-48C5-BE5A-AD7DF31D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3B71F3-0342-46CE-AF5D-28F84629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718AE8-3B08-4C01-AD2C-44495DE2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3B26FA-04C5-4FF7-84FA-D8A8E477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282D59-2EA7-4B01-9F43-B1811447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EA2B85-1F3B-4987-94AF-A9B8488C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11BCB7-97B6-4D38-9FD4-82071E2F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A35BD6-7219-4BB1-A670-8E1CF510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D0FDDC-918B-46FC-B7A9-A1F66623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1E93-0F58-46E1-90D6-D8C47775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5C7D3B-DA01-4CF3-96B9-93D2CE80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F5FA71-4512-4633-AB2A-4DDFA5F0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02CC5A-F679-4778-868A-FC3E6A57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9FFA04-679A-4DD4-B594-5465FD79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A82BF2-5437-4EF4-B036-045636AB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5BE042-8DFF-4C04-9D29-1B101BFB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721705-6D45-4FF0-8497-6B51E08F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EB6E58-5CBE-4607-9062-68B9A698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A547EB-5DCA-4C1E-B3DD-C63F4B2D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11052B-A60A-4AFB-8DAA-837A220B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5DCC-A5D7-4235-9103-D76DDD9B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728B54-DA56-470C-82D8-622BFF55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683699-1073-4256-B01F-FBE051C3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E42A8D-581B-4D84-A29F-AD2CC13C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81EC4A-EF9B-4740-9DF7-331ABAED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E237DD-DEA2-49D9-9114-1452C622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CED38D-B433-4AC2-BB5E-98810BD0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40C4ED-BE49-4761-AA83-6950A1D6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D6ED4F-1A9F-4C29-9959-E7CE6365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D710D1-2060-4E58-8895-51A88588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89C578-D290-4CAB-8FD5-F5D9E1C5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066-BA81-4C7D-8D9B-065D37F1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605D9D-BEE2-4C00-8608-8D4F1E4A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E93-46F0-4FDD-987C-F477DDD2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F77-AF29-418F-8EA1-897174DF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603-24B8-4154-B4F1-971B677F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C6E5-4780-4CC2-8810-8D438235F7B3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1C0C-982E-4E44-B7FF-EC1CEA3AA7C9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8C05-6FEB-4B38-9C7B-F67B4357CE34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0AE0-1AF3-4400-A57A-9AAD3EC258E5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lanowany termin udzielenia świadczenia oznaczany jest z dokładnością do dnia, jeżeli przekracza on 6 miesięcy licząc od daty wpisu na listę oczekujących dopuszczalne jest wskazanie terminu z dokładnością do tygodnia (terminem wskazanym jest pierwszy dzień tygodnia – poniedziałek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datkowe wolne terminy, które powstaną niezależnie od przyczyny należy przeznaczyć na przyspieszenie terminów realizacji świadczeń dla pacjentów czekających najdłużej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yznacza osobę odpowiedzialną za systematyczne i terminowe przekazywanie do oddziału wojewódzkiego NFZ za pośrednictwem udostępnionej aplikacji danych z zakresu list oczekujących; informację o wyznaczonej osobie wraz z adresem poczty elektronicznej i numerem telefonu, świadczeniodawca przekazuje NFZ w celu ułatwienia kontakt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91 świadczeniodawców z terenu całego kraju, dokonywało wszczepów endoprotez stawowych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 wszczepienia endoprotez staw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wyno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biodr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03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86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kolan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18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40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Zajmujemy 12 miejsce w kraj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biegi w zakresie soczewki (zaćma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06 świadczeniodawców z terenu całego kraju, dokonywało zabiegów w zakresie soczewki (zaćma)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3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na zabieg wynosi: średnia krajowa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23 dn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średnia dla województwa lubuskiego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59 dn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przypadki stabilne).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Zajmujemy 3 miejsce w kra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ziękuję za uwag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m Ministra Zdrowia z dnia 20 czerwca 2008 r. w sprawie zakresu niezbędnych informacji gromadzonych przez świadczeniodawców, szczegółowego sposobu rejestrowania tych informacji oraz ich przekazywania podmiotom zobowiązanym do finansowania świadczeń ze środków publiczny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Zmiany w sprawozdawczości z list oczekujących od stycznia 2010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godnie z § 12 rozporządzeniem Ministra Zdrowia z dnia 20 czerwca 2008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sprawie zakresu niezbędnych informacji gromadzonych przez świadczeniodawców, szczegółowego sposobu rejestrowania tych informacj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ich przekazywania podmiotom zobowiązanym do finansowania świadczeń ze środków publicznych (Dz. U. Nr 123, poz. 801)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ylko do 31.12.2009 r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przekazywane są  do LOW NFZ informacje o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średnim przewidywanym czasie oczekiwania do komórek organizacyjn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liczbie oczekujących i średnich czasach oczekiwania (przewidywanym i rzeczywistym) na wybrane procedury medyczne oraz leczenia w ramach terapeutycznych programów zdrowot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edług nowych, uproszczonych zasad świadczeniodawca sprawozdawać będzie tylko informację o liczbie oczekujących oraz średnim rzeczywistym czasie oczekiwania w poszczególnych komórkach organizacyjn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a opieki zdrowotnej są udzielane według kolejności zgłoszenia, z uwzględnieniem stanu zdrowia pacjen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pisuje świadczeniobiorcę na listę oczekujących po stwierdzeniu, że posiada wymagane skierowanie na świadczenie danego rodzaju; skierowania z brakami, pozbawione istotnych danych, nie mogą być przyczyną nie wpisania na listę oczekujących – należy wystąpić do pacjenta o uzupełnienie danych lub uzyskać od lekarza kierujące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mieszczenie pacjenta na liście oczekujących powinno nastąpić w dniu zgłoszenia się do świadczeniodawcy, należy pisemnie poinformować pacjenta o terminie udzielenia świadczenia (może to być adnotacja na skierowaniu potwierdzona pieczęcią świadczeniodawcy i podpisem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prezentacja</cp:lastModifiedBy>
  <dcterms:modified xsi:type="dcterms:W3CDTF">2009-09-15T11:01:06Z</dcterms:modified>
  <cp:revision>75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