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939-D922-40EF-B24F-A37CD4B7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CCF-A543-4A6E-8227-A227CEB5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C53-E17B-4524-81BB-9E252761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88E-DDF9-41B2-847D-F8609345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0707-39D6-4700-9DF9-A54B865E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0D1D-D9D7-47EB-9941-954678F3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F2D4-C946-4117-A626-B5F5188B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6076-B1DD-47EA-A501-FD7FD991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398A-AE2E-4E1B-8391-7D21983A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A7EF-6A57-4D02-A8D5-BD35C4C8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5029-DFC8-4DC3-AF92-3BAF2812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7E1-D85E-44E0-A595-BE3CB23B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AD7F-90FC-47E6-AD7B-0B6C5EC0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2498-0891-4994-A725-1C16AF5A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90F2-20FC-4786-A1E7-8ACAD63C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903C-A9FE-4A98-8622-6970A040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ECF4-B057-4B2A-BD5B-7C458FDC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1A4-45FF-4F22-9B1D-DE8C6E1C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D557B-4D37-4904-8CE9-59F5DEC8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4DAD24-BE12-4286-BB87-6BC2B4A6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9937DE-FACE-459C-946C-FBD25D47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812-1E5C-4FC0-9E02-76953784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8FC9E-3CBE-48E4-9897-4FBA5624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C3C02-C477-40ED-B312-5D556D79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59755C-FDCD-4FD4-87A4-1C64A487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851975-99E0-434B-B113-82ED1974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87E7E-4DE9-4268-B653-A76ECBF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BCCD6-CED2-429E-AE47-6A8D1C10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CA171F-DBD3-43EB-96A4-2F5B7D7C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143776-2808-44F0-AE35-3402133F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08262A-CB8C-4181-BF9E-B4937057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F27B16-21CD-4481-A535-0B38AAA7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2B4-FC62-4160-A2AE-36487DD5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1EF503-AD10-40B7-8BB8-1DF31C44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469E78-93E5-44C2-BF2C-0A7881E1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A091EA-C9A5-49F4-8F46-F534CFBD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36E4E2-B194-4288-91F8-626C5F5D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DDEE36-5F6A-49EF-AEF6-A4B7F63C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62C1A9-387E-4150-BEF2-075509E2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82D412-6CF1-4FD4-B475-52F802C9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CC8BD1-F3BF-465D-8F2B-3B031CE6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EC0A23-DF5B-441D-9280-35C1EADB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FA7E4B-368F-4AF3-8964-DA7B2BF8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0D5-6467-4323-8110-E3DA856C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F51A7B-4D29-45ED-919A-8640B5BF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927-495F-4809-9A70-E9F2F783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B6A-A0BD-463F-A0A3-8B6D3C2A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BC7-5F10-46E4-A803-DAAD116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9696-3D39-4B41-A6A7-6B401547316B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8EE0-5B3B-4AB6-95E4-AE3C5F475594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AD4A-7450-4D6E-A6AC-266CA7E64AF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252E-22C5-42D4-9F9F-DAD133857F5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8 rok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91 świadczeniodawc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terenu całego kraju, dokonywało wszczepów endoprotez stawowych oraz implantów kręgosłupa, z czeg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77 świadczeniodawc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ło endoprotezy staw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2 30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3 placówki to zakłady niepubliczne, które dokona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11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iększości przypadków procedury wszczepiania endoprotez stawowych realizowane są w oddziałach urazowo-ortopedycznych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311 oddziałów szpitalnych wszczepiających endoprotezy staw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 to oddziały chirurgii ogólnej i 4 oddziały neurochirurg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odział regionaln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00" y="1627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czba świadczeniodawców dokonujących wszczepów endoprotez stawów oraz implantów kręgosłup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2008 rok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4960" y="1982880"/>
            <a:ext cx="5960520" cy="4686120"/>
            <a:chOff x="1704960" y="1982880"/>
            <a:chExt cx="5960520" cy="4686120"/>
          </a:xfrm>
        </p:grpSpPr>
        <p:grpSp>
          <p:nvGrpSpPr>
            <p:cNvPr id="239" name=""/>
            <p:cNvGrpSpPr/>
            <p:nvPr/>
          </p:nvGrpSpPr>
          <p:grpSpPr>
            <a:xfrm>
              <a:off x="1704960" y="1982880"/>
              <a:ext cx="5960520" cy="4636440"/>
              <a:chOff x="1704960" y="1982880"/>
              <a:chExt cx="5960520" cy="4636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428280" y="5030640"/>
                <a:ext cx="1027800" cy="101664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47" y="3"/>
                    </a:move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7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3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29" y="59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8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4"/>
                    </a:lnTo>
                    <a:lnTo>
                      <a:pt x="30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5" y="70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2" y="65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3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7" y="58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4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4" y="41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6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8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1" y="8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65200" y="4802040"/>
                <a:ext cx="1248120" cy="95184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32" y="10"/>
                    </a:moveTo>
                    <a:lnTo>
                      <a:pt x="32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9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27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30"/>
                    </a:lnTo>
                    <a:lnTo>
                      <a:pt x="74" y="32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3" y="35"/>
                    </a:lnTo>
                    <a:lnTo>
                      <a:pt x="73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40"/>
                    </a:lnTo>
                    <a:lnTo>
                      <a:pt x="69" y="41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2" y="47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9" y="50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3" y="55"/>
                    </a:lnTo>
                    <a:lnTo>
                      <a:pt x="52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7" y="66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4"/>
                    </a:lnTo>
                    <a:lnTo>
                      <a:pt x="26" y="65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3" y="56"/>
                    </a:lnTo>
                    <a:lnTo>
                      <a:pt x="23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320" y="2163960"/>
                <a:ext cx="1989000" cy="116100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12" y="9"/>
                    </a:moveTo>
                    <a:lnTo>
                      <a:pt x="11" y="10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20" y="72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29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2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6" y="81"/>
                    </a:lnTo>
                    <a:lnTo>
                      <a:pt x="36" y="81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80"/>
                    </a:lnTo>
                    <a:lnTo>
                      <a:pt x="38" y="80"/>
                    </a:lnTo>
                    <a:lnTo>
                      <a:pt x="39" y="81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9" y="75"/>
                    </a:lnTo>
                    <a:lnTo>
                      <a:pt x="49" y="75"/>
                    </a:lnTo>
                    <a:lnTo>
                      <a:pt x="49" y="74"/>
                    </a:lnTo>
                    <a:lnTo>
                      <a:pt x="49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59" y="69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60" y="69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5" y="67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6" y="66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9" y="62"/>
                    </a:lnTo>
                    <a:lnTo>
                      <a:pt x="70" y="62"/>
                    </a:lnTo>
                    <a:lnTo>
                      <a:pt x="70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80" y="57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82" y="56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6" y="55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9" y="56"/>
                    </a:lnTo>
                    <a:lnTo>
                      <a:pt x="89" y="56"/>
                    </a:lnTo>
                    <a:lnTo>
                      <a:pt x="90" y="57"/>
                    </a:lnTo>
                    <a:lnTo>
                      <a:pt x="91" y="57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6" y="54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9" y="51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8"/>
                    </a:lnTo>
                    <a:lnTo>
                      <a:pt x="102" y="48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07" y="41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6"/>
                    </a:lnTo>
                    <a:lnTo>
                      <a:pt x="116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8" y="29"/>
                    </a:lnTo>
                    <a:lnTo>
                      <a:pt x="118" y="29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7" y="27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5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5" y="23"/>
                    </a:lnTo>
                    <a:lnTo>
                      <a:pt x="114" y="23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1"/>
                    </a:lnTo>
                    <a:lnTo>
                      <a:pt x="113" y="21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2" y="20"/>
                    </a:lnTo>
                    <a:lnTo>
                      <a:pt x="112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5"/>
                    </a:lnTo>
                    <a:lnTo>
                      <a:pt x="110" y="15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2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9" y="7"/>
                    </a:lnTo>
                    <a:lnTo>
                      <a:pt x="109" y="7"/>
                    </a:lnTo>
                    <a:lnTo>
                      <a:pt x="110" y="6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08" y="1"/>
                    </a:lnTo>
                    <a:lnTo>
                      <a:pt x="108" y="1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3" y="2"/>
                    </a:lnTo>
                    <a:lnTo>
                      <a:pt x="103" y="3"/>
                    </a:lnTo>
                    <a:lnTo>
                      <a:pt x="103" y="3"/>
                    </a:lnTo>
                    <a:lnTo>
                      <a:pt x="102" y="3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8" y="3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4" y="8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55760" y="2127240"/>
                <a:ext cx="1418760" cy="174168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36" y="29"/>
                    </a:moveTo>
                    <a:lnTo>
                      <a:pt x="36" y="29"/>
                    </a:lnTo>
                    <a:lnTo>
                      <a:pt x="36" y="30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5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6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6" y="77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7" y="80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7" y="87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7" y="91"/>
                    </a:lnTo>
                    <a:lnTo>
                      <a:pt x="27" y="91"/>
                    </a:lnTo>
                    <a:lnTo>
                      <a:pt x="27" y="92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7" y="92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8" y="96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30" y="97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2" y="96"/>
                    </a:lnTo>
                    <a:lnTo>
                      <a:pt x="33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7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5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3" y="107"/>
                    </a:lnTo>
                    <a:lnTo>
                      <a:pt x="34" y="107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9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2" y="118"/>
                    </a:lnTo>
                    <a:lnTo>
                      <a:pt x="42" y="118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1" y="120"/>
                    </a:lnTo>
                    <a:lnTo>
                      <a:pt x="51" y="120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2" y="123"/>
                    </a:lnTo>
                    <a:lnTo>
                      <a:pt x="62" y="122"/>
                    </a:lnTo>
                    <a:lnTo>
                      <a:pt x="63" y="119"/>
                    </a:lnTo>
                    <a:lnTo>
                      <a:pt x="63" y="119"/>
                    </a:lnTo>
                    <a:lnTo>
                      <a:pt x="64" y="117"/>
                    </a:lnTo>
                    <a:lnTo>
                      <a:pt x="64" y="116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68" y="107"/>
                    </a:lnTo>
                    <a:lnTo>
                      <a:pt x="69" y="107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71" y="105"/>
                    </a:lnTo>
                    <a:lnTo>
                      <a:pt x="71" y="104"/>
                    </a:lnTo>
                    <a:lnTo>
                      <a:pt x="73" y="103"/>
                    </a:lnTo>
                    <a:lnTo>
                      <a:pt x="74" y="102"/>
                    </a:lnTo>
                    <a:lnTo>
                      <a:pt x="75" y="102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7" y="101"/>
                    </a:lnTo>
                    <a:lnTo>
                      <a:pt x="77" y="101"/>
                    </a:lnTo>
                    <a:lnTo>
                      <a:pt x="78" y="101"/>
                    </a:lnTo>
                    <a:lnTo>
                      <a:pt x="78" y="101"/>
                    </a:lnTo>
                    <a:lnTo>
                      <a:pt x="79" y="100"/>
                    </a:lnTo>
                    <a:lnTo>
                      <a:pt x="81" y="97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5"/>
                    </a:lnTo>
                    <a:lnTo>
                      <a:pt x="84" y="94"/>
                    </a:lnTo>
                    <a:lnTo>
                      <a:pt x="83" y="91"/>
                    </a:lnTo>
                    <a:lnTo>
                      <a:pt x="83" y="90"/>
                    </a:lnTo>
                    <a:lnTo>
                      <a:pt x="83" y="88"/>
                    </a:lnTo>
                    <a:lnTo>
                      <a:pt x="82" y="87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5"/>
                    </a:lnTo>
                    <a:lnTo>
                      <a:pt x="82" y="84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2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1" y="79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8" y="73"/>
                    </a:lnTo>
                    <a:lnTo>
                      <a:pt x="78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4" y="61"/>
                    </a:lnTo>
                    <a:lnTo>
                      <a:pt x="73" y="59"/>
                    </a:lnTo>
                    <a:lnTo>
                      <a:pt x="73" y="59"/>
                    </a:lnTo>
                    <a:lnTo>
                      <a:pt x="73" y="58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4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68" y="49"/>
                    </a:lnTo>
                    <a:lnTo>
                      <a:pt x="68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7" y="46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5" y="41"/>
                    </a:lnTo>
                    <a:lnTo>
                      <a:pt x="65" y="40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57320" y="2964960"/>
                <a:ext cx="2217960" cy="2054880"/>
              </a:xfrm>
              <a:custGeom>
                <a:avLst/>
                <a:gdLst/>
                <a:ahLst/>
                <a:rect l="l" t="t" r="r" b="b"/>
                <a:pathLst>
                  <a:path w="131" h="145">
                    <a:moveTo>
                      <a:pt x="78" y="142"/>
                    </a:moveTo>
                    <a:lnTo>
                      <a:pt x="77" y="142"/>
                    </a:lnTo>
                    <a:lnTo>
                      <a:pt x="75" y="142"/>
                    </a:lnTo>
                    <a:lnTo>
                      <a:pt x="73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1"/>
                    </a:lnTo>
                    <a:lnTo>
                      <a:pt x="72" y="141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0" y="138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9" y="136"/>
                    </a:lnTo>
                    <a:lnTo>
                      <a:pt x="69" y="137"/>
                    </a:lnTo>
                    <a:lnTo>
                      <a:pt x="69" y="137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40"/>
                    </a:lnTo>
                    <a:lnTo>
                      <a:pt x="64" y="140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3" y="138"/>
                    </a:lnTo>
                    <a:lnTo>
                      <a:pt x="62" y="139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2" y="141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0"/>
                    </a:lnTo>
                    <a:lnTo>
                      <a:pt x="59" y="140"/>
                    </a:lnTo>
                    <a:lnTo>
                      <a:pt x="59" y="140"/>
                    </a:lnTo>
                    <a:lnTo>
                      <a:pt x="58" y="140"/>
                    </a:lnTo>
                    <a:lnTo>
                      <a:pt x="59" y="140"/>
                    </a:lnTo>
                    <a:lnTo>
                      <a:pt x="57" y="139"/>
                    </a:lnTo>
                    <a:lnTo>
                      <a:pt x="56" y="139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8"/>
                    </a:lnTo>
                    <a:lnTo>
                      <a:pt x="56" y="138"/>
                    </a:lnTo>
                    <a:lnTo>
                      <a:pt x="56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4" y="136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1" y="135"/>
                    </a:lnTo>
                    <a:lnTo>
                      <a:pt x="51" y="135"/>
                    </a:lnTo>
                    <a:lnTo>
                      <a:pt x="51" y="136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50" y="134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49" y="133"/>
                    </a:lnTo>
                    <a:lnTo>
                      <a:pt x="49" y="133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1"/>
                    </a:lnTo>
                    <a:lnTo>
                      <a:pt x="48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8" y="130"/>
                    </a:lnTo>
                    <a:lnTo>
                      <a:pt x="47" y="130"/>
                    </a:lnTo>
                    <a:lnTo>
                      <a:pt x="47" y="130"/>
                    </a:lnTo>
                    <a:lnTo>
                      <a:pt x="46" y="130"/>
                    </a:lnTo>
                    <a:lnTo>
                      <a:pt x="46" y="130"/>
                    </a:lnTo>
                    <a:lnTo>
                      <a:pt x="45" y="129"/>
                    </a:lnTo>
                    <a:lnTo>
                      <a:pt x="46" y="129"/>
                    </a:lnTo>
                    <a:lnTo>
                      <a:pt x="45" y="129"/>
                    </a:lnTo>
                    <a:lnTo>
                      <a:pt x="45" y="128"/>
                    </a:lnTo>
                    <a:lnTo>
                      <a:pt x="46" y="127"/>
                    </a:lnTo>
                    <a:lnTo>
                      <a:pt x="46" y="127"/>
                    </a:lnTo>
                    <a:lnTo>
                      <a:pt x="46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5"/>
                    </a:lnTo>
                    <a:lnTo>
                      <a:pt x="48" y="125"/>
                    </a:lnTo>
                    <a:lnTo>
                      <a:pt x="48" y="124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0"/>
                    </a:lnTo>
                    <a:lnTo>
                      <a:pt x="48" y="120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20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6" y="117"/>
                    </a:lnTo>
                    <a:lnTo>
                      <a:pt x="46" y="117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2" y="112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0"/>
                    </a:lnTo>
                    <a:lnTo>
                      <a:pt x="43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09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8" y="110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8"/>
                    </a:lnTo>
                    <a:lnTo>
                      <a:pt x="51" y="108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8" y="100"/>
                    </a:lnTo>
                    <a:lnTo>
                      <a:pt x="49" y="100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7" y="98"/>
                    </a:lnTo>
                    <a:lnTo>
                      <a:pt x="47" y="97"/>
                    </a:lnTo>
                    <a:lnTo>
                      <a:pt x="47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0" y="95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5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2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5" y="89"/>
                    </a:lnTo>
                    <a:lnTo>
                      <a:pt x="35" y="89"/>
                    </a:lnTo>
                    <a:lnTo>
                      <a:pt x="36" y="88"/>
                    </a:lnTo>
                    <a:lnTo>
                      <a:pt x="35" y="8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6" y="85"/>
                    </a:lnTo>
                    <a:lnTo>
                      <a:pt x="36" y="85"/>
                    </a:lnTo>
                    <a:lnTo>
                      <a:pt x="35" y="85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3" y="85"/>
                    </a:lnTo>
                    <a:lnTo>
                      <a:pt x="33" y="85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9" y="82"/>
                    </a:lnTo>
                    <a:lnTo>
                      <a:pt x="29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7"/>
                    </a:lnTo>
                    <a:lnTo>
                      <a:pt x="27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1" y="7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5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3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4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7" y="9"/>
                    </a:lnTo>
                    <a:lnTo>
                      <a:pt x="77" y="9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3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5" y="14"/>
                    </a:lnTo>
                    <a:lnTo>
                      <a:pt x="75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1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6" y="24"/>
                    </a:lnTo>
                    <a:lnTo>
                      <a:pt x="86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8" y="28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9" y="29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3" y="34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98" y="33"/>
                    </a:lnTo>
                    <a:lnTo>
                      <a:pt x="99" y="33"/>
                    </a:lnTo>
                    <a:lnTo>
                      <a:pt x="99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9" y="38"/>
                    </a:lnTo>
                    <a:lnTo>
                      <a:pt x="99" y="39"/>
                    </a:lnTo>
                    <a:lnTo>
                      <a:pt x="99" y="39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1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4" y="37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5" y="37"/>
                    </a:lnTo>
                    <a:lnTo>
                      <a:pt x="105" y="38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8" y="51"/>
                    </a:lnTo>
                    <a:lnTo>
                      <a:pt x="108" y="51"/>
                    </a:lnTo>
                    <a:lnTo>
                      <a:pt x="108" y="52"/>
                    </a:lnTo>
                    <a:lnTo>
                      <a:pt x="108" y="52"/>
                    </a:lnTo>
                    <a:lnTo>
                      <a:pt x="109" y="52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5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0"/>
                    </a:lnTo>
                    <a:lnTo>
                      <a:pt x="122" y="60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0"/>
                    </a:lnTo>
                    <a:lnTo>
                      <a:pt x="122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4" y="60"/>
                    </a:lnTo>
                    <a:lnTo>
                      <a:pt x="124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8" y="64"/>
                    </a:lnTo>
                    <a:lnTo>
                      <a:pt x="128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1" y="64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9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8" y="68"/>
                    </a:lnTo>
                    <a:lnTo>
                      <a:pt x="128" y="69"/>
                    </a:lnTo>
                    <a:lnTo>
                      <a:pt x="129" y="69"/>
                    </a:lnTo>
                    <a:lnTo>
                      <a:pt x="129" y="69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8" y="70"/>
                    </a:lnTo>
                    <a:lnTo>
                      <a:pt x="128" y="70"/>
                    </a:lnTo>
                    <a:lnTo>
                      <a:pt x="127" y="70"/>
                    </a:lnTo>
                    <a:lnTo>
                      <a:pt x="127" y="71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4"/>
                    </a:lnTo>
                    <a:lnTo>
                      <a:pt x="127" y="74"/>
                    </a:lnTo>
                    <a:lnTo>
                      <a:pt x="127" y="74"/>
                    </a:lnTo>
                    <a:lnTo>
                      <a:pt x="127" y="75"/>
                    </a:lnTo>
                    <a:lnTo>
                      <a:pt x="126" y="74"/>
                    </a:lnTo>
                    <a:lnTo>
                      <a:pt x="126" y="74"/>
                    </a:lnTo>
                    <a:lnTo>
                      <a:pt x="125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3" y="77"/>
                    </a:lnTo>
                    <a:lnTo>
                      <a:pt x="123" y="77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19" y="76"/>
                    </a:lnTo>
                    <a:lnTo>
                      <a:pt x="119" y="76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7" y="76"/>
                    </a:lnTo>
                    <a:lnTo>
                      <a:pt x="117" y="76"/>
                    </a:lnTo>
                    <a:lnTo>
                      <a:pt x="116" y="77"/>
                    </a:lnTo>
                    <a:lnTo>
                      <a:pt x="117" y="77"/>
                    </a:lnTo>
                    <a:lnTo>
                      <a:pt x="117" y="78"/>
                    </a:lnTo>
                    <a:lnTo>
                      <a:pt x="117" y="78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80"/>
                    </a:lnTo>
                    <a:lnTo>
                      <a:pt x="111" y="81"/>
                    </a:lnTo>
                    <a:lnTo>
                      <a:pt x="110" y="81"/>
                    </a:lnTo>
                    <a:lnTo>
                      <a:pt x="110" y="81"/>
                    </a:lnTo>
                    <a:lnTo>
                      <a:pt x="110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7" y="83"/>
                    </a:lnTo>
                    <a:lnTo>
                      <a:pt x="107" y="83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6" y="81"/>
                    </a:lnTo>
                    <a:lnTo>
                      <a:pt x="106" y="81"/>
                    </a:lnTo>
                    <a:lnTo>
                      <a:pt x="105" y="81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05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3" y="83"/>
                    </a:lnTo>
                    <a:lnTo>
                      <a:pt x="102" y="8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97" y="84"/>
                    </a:lnTo>
                    <a:lnTo>
                      <a:pt x="96" y="84"/>
                    </a:lnTo>
                    <a:lnTo>
                      <a:pt x="96" y="83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5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93" y="86"/>
                    </a:lnTo>
                    <a:lnTo>
                      <a:pt x="93" y="86"/>
                    </a:lnTo>
                    <a:lnTo>
                      <a:pt x="92" y="86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1"/>
                    </a:lnTo>
                    <a:lnTo>
                      <a:pt x="93" y="91"/>
                    </a:lnTo>
                    <a:lnTo>
                      <a:pt x="93" y="92"/>
                    </a:lnTo>
                    <a:lnTo>
                      <a:pt x="92" y="92"/>
                    </a:lnTo>
                    <a:lnTo>
                      <a:pt x="92" y="93"/>
                    </a:lnTo>
                    <a:lnTo>
                      <a:pt x="92" y="93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3" y="95"/>
                    </a:lnTo>
                    <a:lnTo>
                      <a:pt x="93" y="94"/>
                    </a:lnTo>
                    <a:lnTo>
                      <a:pt x="93" y="94"/>
                    </a:lnTo>
                    <a:lnTo>
                      <a:pt x="94" y="95"/>
                    </a:lnTo>
                    <a:lnTo>
                      <a:pt x="94" y="96"/>
                    </a:lnTo>
                    <a:lnTo>
                      <a:pt x="95" y="97"/>
                    </a:lnTo>
                    <a:lnTo>
                      <a:pt x="95" y="97"/>
                    </a:lnTo>
                    <a:lnTo>
                      <a:pt x="95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2" y="99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3"/>
                    </a:lnTo>
                    <a:lnTo>
                      <a:pt x="93" y="102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3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8" y="109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8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6" y="110"/>
                    </a:lnTo>
                    <a:lnTo>
                      <a:pt x="86" y="110"/>
                    </a:lnTo>
                    <a:lnTo>
                      <a:pt x="86" y="111"/>
                    </a:lnTo>
                    <a:lnTo>
                      <a:pt x="86" y="111"/>
                    </a:lnTo>
                    <a:lnTo>
                      <a:pt x="87" y="111"/>
                    </a:lnTo>
                    <a:lnTo>
                      <a:pt x="88" y="112"/>
                    </a:lnTo>
                    <a:lnTo>
                      <a:pt x="89" y="112"/>
                    </a:lnTo>
                    <a:lnTo>
                      <a:pt x="90" y="112"/>
                    </a:lnTo>
                    <a:lnTo>
                      <a:pt x="90" y="112"/>
                    </a:lnTo>
                    <a:lnTo>
                      <a:pt x="91" y="111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8"/>
                    </a:lnTo>
                    <a:lnTo>
                      <a:pt x="94" y="118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19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3" y="123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3" y="123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4" y="123"/>
                    </a:lnTo>
                    <a:lnTo>
                      <a:pt x="94" y="124"/>
                    </a:lnTo>
                    <a:lnTo>
                      <a:pt x="94" y="124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7"/>
                    </a:lnTo>
                    <a:lnTo>
                      <a:pt x="95" y="128"/>
                    </a:lnTo>
                    <a:lnTo>
                      <a:pt x="94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9"/>
                    </a:lnTo>
                    <a:lnTo>
                      <a:pt x="95" y="129"/>
                    </a:lnTo>
                    <a:lnTo>
                      <a:pt x="94" y="129"/>
                    </a:lnTo>
                    <a:lnTo>
                      <a:pt x="94" y="130"/>
                    </a:lnTo>
                    <a:lnTo>
                      <a:pt x="94" y="130"/>
                    </a:lnTo>
                    <a:lnTo>
                      <a:pt x="94" y="131"/>
                    </a:lnTo>
                    <a:lnTo>
                      <a:pt x="94" y="131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4"/>
                    </a:lnTo>
                    <a:lnTo>
                      <a:pt x="93" y="134"/>
                    </a:lnTo>
                    <a:lnTo>
                      <a:pt x="94" y="134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5" y="135"/>
                    </a:lnTo>
                    <a:lnTo>
                      <a:pt x="95" y="135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8"/>
                    </a:lnTo>
                    <a:lnTo>
                      <a:pt x="94" y="138"/>
                    </a:lnTo>
                    <a:lnTo>
                      <a:pt x="94" y="139"/>
                    </a:lnTo>
                    <a:lnTo>
                      <a:pt x="94" y="140"/>
                    </a:lnTo>
                    <a:lnTo>
                      <a:pt x="94" y="140"/>
                    </a:lnTo>
                    <a:lnTo>
                      <a:pt x="95" y="140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3" y="142"/>
                    </a:lnTo>
                    <a:lnTo>
                      <a:pt x="93" y="142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1"/>
                    </a:lnTo>
                    <a:lnTo>
                      <a:pt x="90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9" y="141"/>
                    </a:lnTo>
                    <a:lnTo>
                      <a:pt x="89" y="142"/>
                    </a:lnTo>
                    <a:lnTo>
                      <a:pt x="89" y="142"/>
                    </a:lnTo>
                    <a:lnTo>
                      <a:pt x="88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4" y="143"/>
                    </a:lnTo>
                    <a:lnTo>
                      <a:pt x="85" y="144"/>
                    </a:lnTo>
                    <a:lnTo>
                      <a:pt x="84" y="143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2" y="145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0" y="144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1"/>
                    </a:lnTo>
                    <a:lnTo>
                      <a:pt x="78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65480" y="3981600"/>
                <a:ext cx="1457640" cy="1275480"/>
              </a:xfrm>
              <a:custGeom>
                <a:avLst/>
                <a:gdLst/>
                <a:ahLst/>
                <a:rect l="l" t="t" r="r" b="b"/>
                <a:pathLst>
                  <a:path w="86" h="90">
                    <a:moveTo>
                      <a:pt x="67" y="68"/>
                    </a:moveTo>
                    <a:lnTo>
                      <a:pt x="67" y="68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7" y="74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9"/>
                    </a:lnTo>
                    <a:lnTo>
                      <a:pt x="69" y="79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7" y="79"/>
                    </a:lnTo>
                    <a:lnTo>
                      <a:pt x="67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4" y="78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3" y="77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3" y="81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3" y="82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6"/>
                    </a:lnTo>
                    <a:lnTo>
                      <a:pt x="62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7"/>
                    </a:lnTo>
                    <a:lnTo>
                      <a:pt x="61" y="87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8" y="89"/>
                    </a:lnTo>
                    <a:lnTo>
                      <a:pt x="58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6" y="88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50" y="87"/>
                    </a:lnTo>
                    <a:lnTo>
                      <a:pt x="50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49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6" y="81"/>
                    </a:lnTo>
                    <a:lnTo>
                      <a:pt x="45" y="81"/>
                    </a:lnTo>
                    <a:lnTo>
                      <a:pt x="45" y="81"/>
                    </a:lnTo>
                    <a:lnTo>
                      <a:pt x="44" y="81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2" y="79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1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38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7" y="82"/>
                    </a:lnTo>
                    <a:lnTo>
                      <a:pt x="37" y="81"/>
                    </a:lnTo>
                    <a:lnTo>
                      <a:pt x="37" y="81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7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7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0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70" y="12"/>
                    </a:lnTo>
                    <a:lnTo>
                      <a:pt x="70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6"/>
                    </a:lnTo>
                    <a:lnTo>
                      <a:pt x="71" y="16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0" y="23"/>
                    </a:lnTo>
                    <a:lnTo>
                      <a:pt x="71" y="23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5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4"/>
                    </a:lnTo>
                    <a:lnTo>
                      <a:pt x="79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5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3" y="27"/>
                    </a:lnTo>
                    <a:lnTo>
                      <a:pt x="84" y="27"/>
                    </a:lnTo>
                    <a:lnTo>
                      <a:pt x="84" y="28"/>
                    </a:lnTo>
                    <a:lnTo>
                      <a:pt x="83" y="28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2" y="29"/>
                    </a:lnTo>
                    <a:lnTo>
                      <a:pt x="82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2"/>
                    </a:lnTo>
                    <a:lnTo>
                      <a:pt x="83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4" y="38"/>
                    </a:lnTo>
                    <a:lnTo>
                      <a:pt x="84" y="38"/>
                    </a:lnTo>
                    <a:lnTo>
                      <a:pt x="83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7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3" y="47"/>
                    </a:lnTo>
                    <a:lnTo>
                      <a:pt x="83" y="48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3" y="52"/>
                    </a:lnTo>
                    <a:lnTo>
                      <a:pt x="83" y="53"/>
                    </a:lnTo>
                    <a:lnTo>
                      <a:pt x="82" y="53"/>
                    </a:lnTo>
                    <a:lnTo>
                      <a:pt x="82" y="54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0" y="56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0" y="57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1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9" y="62"/>
                    </a:lnTo>
                    <a:lnTo>
                      <a:pt x="80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6" y="65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6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2" y="67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1" y="68"/>
                    </a:lnTo>
                    <a:lnTo>
                      <a:pt x="71" y="67"/>
                    </a:lnTo>
                    <a:lnTo>
                      <a:pt x="71" y="68"/>
                    </a:lnTo>
                    <a:lnTo>
                      <a:pt x="71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8"/>
                    </a:lnTo>
                    <a:lnTo>
                      <a:pt x="67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60640" y="5514120"/>
                <a:ext cx="1446840" cy="110520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75" y="39"/>
                    </a:moveTo>
                    <a:lnTo>
                      <a:pt x="76" y="39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1" y="40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4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7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3" y="50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4" y="51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3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80" y="60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4" y="64"/>
                    </a:lnTo>
                    <a:lnTo>
                      <a:pt x="74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1" y="66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7" y="67"/>
                    </a:lnTo>
                    <a:lnTo>
                      <a:pt x="68" y="67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1" y="62"/>
                    </a:lnTo>
                    <a:lnTo>
                      <a:pt x="61" y="62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7" y="63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8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3" y="70"/>
                    </a:lnTo>
                    <a:lnTo>
                      <a:pt x="42" y="70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2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8" y="78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7" y="77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6" y="75"/>
                    </a:lnTo>
                    <a:lnTo>
                      <a:pt x="36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2" y="77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1" y="78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9" y="75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8" y="68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7" y="65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5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4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2" y="6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3" y="8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2" y="10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5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30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3"/>
                    </a:lnTo>
                    <a:lnTo>
                      <a:pt x="77" y="33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5" y="37"/>
                    </a:lnTo>
                    <a:lnTo>
                      <a:pt x="75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1600" y="5142960"/>
                <a:ext cx="1418760" cy="1467720"/>
              </a:xfrm>
              <a:custGeom>
                <a:avLst/>
                <a:gdLst/>
                <a:ahLst/>
                <a:rect l="l" t="t" r="r" b="b"/>
                <a:pathLst>
                  <a:path w="84" h="103">
                    <a:moveTo>
                      <a:pt x="14" y="20"/>
                    </a:moveTo>
                    <a:lnTo>
                      <a:pt x="14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3"/>
                    </a:lnTo>
                    <a:lnTo>
                      <a:pt x="11" y="74"/>
                    </a:lnTo>
                    <a:lnTo>
                      <a:pt x="11" y="74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3"/>
                    </a:lnTo>
                    <a:lnTo>
                      <a:pt x="21" y="83"/>
                    </a:lnTo>
                    <a:lnTo>
                      <a:pt x="21" y="84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1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31" y="86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3" y="87"/>
                    </a:lnTo>
                    <a:lnTo>
                      <a:pt x="33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8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0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4" y="100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8" y="99"/>
                    </a:lnTo>
                    <a:lnTo>
                      <a:pt x="59" y="100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3" y="101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7" y="101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69" y="103"/>
                    </a:lnTo>
                    <a:lnTo>
                      <a:pt x="69" y="103"/>
                    </a:lnTo>
                    <a:lnTo>
                      <a:pt x="70" y="103"/>
                    </a:lnTo>
                    <a:lnTo>
                      <a:pt x="70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4"/>
                    </a:lnTo>
                    <a:lnTo>
                      <a:pt x="66" y="94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5" y="95"/>
                    </a:lnTo>
                    <a:lnTo>
                      <a:pt x="65" y="95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4" y="93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3"/>
                    </a:lnTo>
                    <a:lnTo>
                      <a:pt x="63" y="81"/>
                    </a:lnTo>
                    <a:lnTo>
                      <a:pt x="62" y="80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61" y="76"/>
                    </a:lnTo>
                    <a:lnTo>
                      <a:pt x="60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4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8" y="56"/>
                    </a:lnTo>
                    <a:lnTo>
                      <a:pt x="67" y="55"/>
                    </a:lnTo>
                    <a:lnTo>
                      <a:pt x="67" y="55"/>
                    </a:lnTo>
                    <a:lnTo>
                      <a:pt x="68" y="54"/>
                    </a:lnTo>
                    <a:lnTo>
                      <a:pt x="68" y="53"/>
                    </a:lnTo>
                    <a:lnTo>
                      <a:pt x="70" y="51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6"/>
                    </a:lnTo>
                    <a:lnTo>
                      <a:pt x="72" y="45"/>
                    </a:lnTo>
                    <a:lnTo>
                      <a:pt x="73" y="45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6" y="39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6" y="37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7" y="36"/>
                    </a:lnTo>
                    <a:lnTo>
                      <a:pt x="77" y="36"/>
                    </a:lnTo>
                    <a:lnTo>
                      <a:pt x="78" y="36"/>
                    </a:lnTo>
                    <a:lnTo>
                      <a:pt x="79" y="34"/>
                    </a:lnTo>
                    <a:lnTo>
                      <a:pt x="80" y="33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2" y="29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4" y="28"/>
                    </a:lnTo>
                    <a:lnTo>
                      <a:pt x="84" y="27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5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81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3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3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8" y="20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520" y="3869280"/>
                <a:ext cx="1569960" cy="1675080"/>
              </a:xfrm>
              <a:custGeom>
                <a:avLst/>
                <a:gdLst/>
                <a:ahLst/>
                <a:rect l="l" t="t" r="r" b="b"/>
                <a:pathLst>
                  <a:path w="93" h="118">
                    <a:moveTo>
                      <a:pt x="10" y="33"/>
                    </a:moveTo>
                    <a:lnTo>
                      <a:pt x="10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5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69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0" y="4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72" y="47"/>
                    </a:lnTo>
                    <a:lnTo>
                      <a:pt x="72" y="47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2" y="53"/>
                    </a:lnTo>
                    <a:lnTo>
                      <a:pt x="72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5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5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3"/>
                    </a:lnTo>
                    <a:lnTo>
                      <a:pt x="85" y="73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5"/>
                    </a:lnTo>
                    <a:lnTo>
                      <a:pt x="87" y="75"/>
                    </a:lnTo>
                    <a:lnTo>
                      <a:pt x="87" y="76"/>
                    </a:lnTo>
                    <a:lnTo>
                      <a:pt x="88" y="76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92" y="79"/>
                    </a:lnTo>
                    <a:lnTo>
                      <a:pt x="91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6" y="82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8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6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89"/>
                    </a:lnTo>
                    <a:lnTo>
                      <a:pt x="92" y="89"/>
                    </a:lnTo>
                    <a:lnTo>
                      <a:pt x="92" y="91"/>
                    </a:lnTo>
                    <a:lnTo>
                      <a:pt x="92" y="91"/>
                    </a:lnTo>
                    <a:lnTo>
                      <a:pt x="92" y="92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3"/>
                    </a:lnTo>
                    <a:lnTo>
                      <a:pt x="93" y="95"/>
                    </a:lnTo>
                    <a:lnTo>
                      <a:pt x="93" y="97"/>
                    </a:lnTo>
                    <a:lnTo>
                      <a:pt x="93" y="100"/>
                    </a:lnTo>
                    <a:lnTo>
                      <a:pt x="92" y="103"/>
                    </a:lnTo>
                    <a:lnTo>
                      <a:pt x="91" y="104"/>
                    </a:lnTo>
                    <a:lnTo>
                      <a:pt x="91" y="105"/>
                    </a:lnTo>
                    <a:lnTo>
                      <a:pt x="90" y="105"/>
                    </a:lnTo>
                    <a:lnTo>
                      <a:pt x="89" y="105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4" y="107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2" y="108"/>
                    </a:lnTo>
                    <a:lnTo>
                      <a:pt x="82" y="108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0"/>
                    </a:lnTo>
                    <a:lnTo>
                      <a:pt x="81" y="111"/>
                    </a:lnTo>
                    <a:lnTo>
                      <a:pt x="81" y="111"/>
                    </a:lnTo>
                    <a:lnTo>
                      <a:pt x="80" y="112"/>
                    </a:lnTo>
                    <a:lnTo>
                      <a:pt x="79" y="112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4"/>
                    </a:lnTo>
                    <a:lnTo>
                      <a:pt x="78" y="114"/>
                    </a:lnTo>
                    <a:lnTo>
                      <a:pt x="78" y="116"/>
                    </a:lnTo>
                    <a:lnTo>
                      <a:pt x="76" y="117"/>
                    </a:lnTo>
                    <a:lnTo>
                      <a:pt x="76" y="116"/>
                    </a:lnTo>
                    <a:lnTo>
                      <a:pt x="75" y="116"/>
                    </a:lnTo>
                    <a:lnTo>
                      <a:pt x="75" y="116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4" y="114"/>
                    </a:lnTo>
                    <a:lnTo>
                      <a:pt x="74" y="115"/>
                    </a:lnTo>
                    <a:lnTo>
                      <a:pt x="73" y="11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72" y="114"/>
                    </a:lnTo>
                    <a:lnTo>
                      <a:pt x="71" y="114"/>
                    </a:lnTo>
                    <a:lnTo>
                      <a:pt x="71" y="113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71" y="112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0" y="110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7" y="111"/>
                    </a:lnTo>
                    <a:lnTo>
                      <a:pt x="66" y="111"/>
                    </a:lnTo>
                    <a:lnTo>
                      <a:pt x="66" y="112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2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2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6"/>
                    </a:lnTo>
                    <a:lnTo>
                      <a:pt x="59" y="116"/>
                    </a:lnTo>
                    <a:lnTo>
                      <a:pt x="58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6" y="117"/>
                    </a:lnTo>
                    <a:lnTo>
                      <a:pt x="55" y="117"/>
                    </a:lnTo>
                    <a:lnTo>
                      <a:pt x="55" y="117"/>
                    </a:lnTo>
                    <a:lnTo>
                      <a:pt x="54" y="117"/>
                    </a:lnTo>
                    <a:lnTo>
                      <a:pt x="53" y="117"/>
                    </a:lnTo>
                    <a:lnTo>
                      <a:pt x="53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8"/>
                    </a:lnTo>
                    <a:lnTo>
                      <a:pt x="51" y="117"/>
                    </a:lnTo>
                    <a:lnTo>
                      <a:pt x="51" y="117"/>
                    </a:lnTo>
                    <a:lnTo>
                      <a:pt x="50" y="117"/>
                    </a:lnTo>
                    <a:lnTo>
                      <a:pt x="49" y="117"/>
                    </a:lnTo>
                    <a:lnTo>
                      <a:pt x="48" y="118"/>
                    </a:lnTo>
                    <a:lnTo>
                      <a:pt x="48" y="118"/>
                    </a:lnTo>
                    <a:lnTo>
                      <a:pt x="47" y="118"/>
                    </a:lnTo>
                    <a:lnTo>
                      <a:pt x="47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3" y="118"/>
                    </a:lnTo>
                    <a:lnTo>
                      <a:pt x="43" y="117"/>
                    </a:lnTo>
                    <a:lnTo>
                      <a:pt x="43" y="117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5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3" y="115"/>
                    </a:lnTo>
                    <a:lnTo>
                      <a:pt x="42" y="115"/>
                    </a:lnTo>
                    <a:lnTo>
                      <a:pt x="41" y="115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7" y="115"/>
                    </a:lnTo>
                    <a:lnTo>
                      <a:pt x="37" y="114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6" y="113"/>
                    </a:lnTo>
                    <a:lnTo>
                      <a:pt x="36" y="114"/>
                    </a:lnTo>
                    <a:lnTo>
                      <a:pt x="36" y="113"/>
                    </a:lnTo>
                    <a:lnTo>
                      <a:pt x="35" y="113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6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9"/>
                    </a:lnTo>
                    <a:lnTo>
                      <a:pt x="40" y="110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0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0" y="107"/>
                    </a:lnTo>
                    <a:lnTo>
                      <a:pt x="40" y="106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9" y="104"/>
                    </a:lnTo>
                    <a:lnTo>
                      <a:pt x="38" y="104"/>
                    </a:lnTo>
                    <a:lnTo>
                      <a:pt x="38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3"/>
                    </a:lnTo>
                    <a:lnTo>
                      <a:pt x="39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7" y="102"/>
                    </a:lnTo>
                    <a:lnTo>
                      <a:pt x="37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4" y="103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3" y="101"/>
                    </a:lnTo>
                    <a:lnTo>
                      <a:pt x="33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5" y="95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19" y="91"/>
                    </a:lnTo>
                    <a:lnTo>
                      <a:pt x="19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15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3" y="92"/>
                    </a:lnTo>
                    <a:lnTo>
                      <a:pt x="13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8" y="51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800" y="3001680"/>
                <a:ext cx="1924200" cy="2104560"/>
              </a:xfrm>
              <a:custGeom>
                <a:avLst/>
                <a:gdLst/>
                <a:ahLst/>
                <a:rect l="l" t="t" r="r" b="b"/>
                <a:pathLst>
                  <a:path w="114" h="148">
                    <a:moveTo>
                      <a:pt x="97" y="68"/>
                    </a:moveTo>
                    <a:lnTo>
                      <a:pt x="97" y="68"/>
                    </a:lnTo>
                    <a:lnTo>
                      <a:pt x="97" y="68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6" y="67"/>
                    </a:lnTo>
                    <a:lnTo>
                      <a:pt x="95" y="66"/>
                    </a:lnTo>
                    <a:lnTo>
                      <a:pt x="95" y="67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7"/>
                    </a:lnTo>
                    <a:lnTo>
                      <a:pt x="94" y="66"/>
                    </a:lnTo>
                    <a:lnTo>
                      <a:pt x="94" y="65"/>
                    </a:lnTo>
                    <a:lnTo>
                      <a:pt x="94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2" y="65"/>
                    </a:lnTo>
                    <a:lnTo>
                      <a:pt x="92" y="65"/>
                    </a:lnTo>
                    <a:lnTo>
                      <a:pt x="92" y="64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6"/>
                    </a:lnTo>
                    <a:lnTo>
                      <a:pt x="91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89" y="66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7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7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4" y="66"/>
                    </a:lnTo>
                    <a:lnTo>
                      <a:pt x="84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5"/>
                    </a:lnTo>
                    <a:lnTo>
                      <a:pt x="81" y="65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8" y="65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6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1"/>
                    </a:lnTo>
                    <a:lnTo>
                      <a:pt x="75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7" y="57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4" y="61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6" y="57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8" y="46"/>
                    </a:lnTo>
                    <a:lnTo>
                      <a:pt x="57" y="46"/>
                    </a:lnTo>
                    <a:lnTo>
                      <a:pt x="58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6" y="42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1" y="37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1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8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3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1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6" y="107"/>
                    </a:lnTo>
                    <a:lnTo>
                      <a:pt x="16" y="107"/>
                    </a:lnTo>
                    <a:lnTo>
                      <a:pt x="16" y="108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18" y="106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0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7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5" y="111"/>
                    </a:lnTo>
                    <a:lnTo>
                      <a:pt x="26" y="111"/>
                    </a:lnTo>
                    <a:lnTo>
                      <a:pt x="26" y="111"/>
                    </a:lnTo>
                    <a:lnTo>
                      <a:pt x="28" y="111"/>
                    </a:lnTo>
                    <a:lnTo>
                      <a:pt x="28" y="111"/>
                    </a:lnTo>
                    <a:lnTo>
                      <a:pt x="28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3"/>
                    </a:lnTo>
                    <a:lnTo>
                      <a:pt x="30" y="113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31" y="114"/>
                    </a:lnTo>
                    <a:lnTo>
                      <a:pt x="32" y="114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3" y="115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3" y="118"/>
                    </a:lnTo>
                    <a:lnTo>
                      <a:pt x="33" y="118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38" y="121"/>
                    </a:lnTo>
                    <a:lnTo>
                      <a:pt x="38" y="122"/>
                    </a:lnTo>
                    <a:lnTo>
                      <a:pt x="39" y="122"/>
                    </a:lnTo>
                    <a:lnTo>
                      <a:pt x="39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1" y="122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2" y="123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6" y="124"/>
                    </a:lnTo>
                    <a:lnTo>
                      <a:pt x="46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9" y="123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2" y="123"/>
                    </a:lnTo>
                    <a:lnTo>
                      <a:pt x="52" y="123"/>
                    </a:lnTo>
                    <a:lnTo>
                      <a:pt x="52" y="122"/>
                    </a:lnTo>
                    <a:lnTo>
                      <a:pt x="52" y="122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0"/>
                    </a:lnTo>
                    <a:lnTo>
                      <a:pt x="51" y="120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4" y="118"/>
                    </a:lnTo>
                    <a:lnTo>
                      <a:pt x="55" y="118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60" y="118"/>
                    </a:lnTo>
                    <a:lnTo>
                      <a:pt x="60" y="118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2" y="125"/>
                    </a:lnTo>
                    <a:lnTo>
                      <a:pt x="62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30"/>
                    </a:lnTo>
                    <a:lnTo>
                      <a:pt x="64" y="130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5" y="131"/>
                    </a:lnTo>
                    <a:lnTo>
                      <a:pt x="65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1" y="134"/>
                    </a:lnTo>
                    <a:lnTo>
                      <a:pt x="71" y="134"/>
                    </a:lnTo>
                    <a:lnTo>
                      <a:pt x="71" y="135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6"/>
                    </a:lnTo>
                    <a:lnTo>
                      <a:pt x="72" y="136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9"/>
                    </a:lnTo>
                    <a:lnTo>
                      <a:pt x="71" y="140"/>
                    </a:lnTo>
                    <a:lnTo>
                      <a:pt x="71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1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3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3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5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7"/>
                    </a:lnTo>
                    <a:lnTo>
                      <a:pt x="75" y="146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0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6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3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7" y="144"/>
                    </a:lnTo>
                    <a:lnTo>
                      <a:pt x="86" y="143"/>
                    </a:lnTo>
                    <a:lnTo>
                      <a:pt x="87" y="143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1"/>
                    </a:lnTo>
                    <a:lnTo>
                      <a:pt x="87" y="141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7"/>
                    </a:lnTo>
                    <a:lnTo>
                      <a:pt x="84" y="137"/>
                    </a:lnTo>
                    <a:lnTo>
                      <a:pt x="84" y="136"/>
                    </a:lnTo>
                    <a:lnTo>
                      <a:pt x="84" y="135"/>
                    </a:lnTo>
                    <a:lnTo>
                      <a:pt x="83" y="135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4" y="132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6" y="131"/>
                    </a:lnTo>
                    <a:lnTo>
                      <a:pt x="87" y="131"/>
                    </a:lnTo>
                    <a:lnTo>
                      <a:pt x="87" y="131"/>
                    </a:lnTo>
                    <a:lnTo>
                      <a:pt x="87" y="130"/>
                    </a:lnTo>
                    <a:lnTo>
                      <a:pt x="87" y="130"/>
                    </a:lnTo>
                    <a:lnTo>
                      <a:pt x="87" y="129"/>
                    </a:lnTo>
                    <a:lnTo>
                      <a:pt x="87" y="129"/>
                    </a:lnTo>
                    <a:lnTo>
                      <a:pt x="87" y="128"/>
                    </a:lnTo>
                    <a:lnTo>
                      <a:pt x="87" y="128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87" y="128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8" y="127"/>
                    </a:lnTo>
                    <a:lnTo>
                      <a:pt x="89" y="128"/>
                    </a:lnTo>
                    <a:lnTo>
                      <a:pt x="90" y="128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8"/>
                    </a:lnTo>
                    <a:lnTo>
                      <a:pt x="91" y="128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92" y="123"/>
                    </a:lnTo>
                    <a:lnTo>
                      <a:pt x="92" y="123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1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19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5"/>
                    </a:lnTo>
                    <a:lnTo>
                      <a:pt x="91" y="114"/>
                    </a:lnTo>
                    <a:lnTo>
                      <a:pt x="91" y="114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2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3" y="112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0"/>
                    </a:lnTo>
                    <a:lnTo>
                      <a:pt x="93" y="110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3" y="109"/>
                    </a:lnTo>
                    <a:lnTo>
                      <a:pt x="93" y="109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5" y="102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4"/>
                    </a:lnTo>
                    <a:lnTo>
                      <a:pt x="96" y="104"/>
                    </a:lnTo>
                    <a:lnTo>
                      <a:pt x="96" y="103"/>
                    </a:lnTo>
                    <a:lnTo>
                      <a:pt x="97" y="103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99" y="104"/>
                    </a:lnTo>
                    <a:lnTo>
                      <a:pt x="100" y="103"/>
                    </a:lnTo>
                    <a:lnTo>
                      <a:pt x="100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3"/>
                    </a:lnTo>
                    <a:lnTo>
                      <a:pt x="101" y="103"/>
                    </a:lnTo>
                    <a:lnTo>
                      <a:pt x="102" y="103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100"/>
                    </a:lnTo>
                    <a:lnTo>
                      <a:pt x="103" y="100"/>
                    </a:lnTo>
                    <a:lnTo>
                      <a:pt x="103" y="99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3" y="97"/>
                    </a:lnTo>
                    <a:lnTo>
                      <a:pt x="103" y="96"/>
                    </a:lnTo>
                    <a:lnTo>
                      <a:pt x="103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4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2"/>
                    </a:lnTo>
                    <a:lnTo>
                      <a:pt x="102" y="92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102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7" y="88"/>
                    </a:lnTo>
                    <a:lnTo>
                      <a:pt x="108" y="88"/>
                    </a:lnTo>
                    <a:lnTo>
                      <a:pt x="108" y="88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8" y="82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1" y="80"/>
                    </a:lnTo>
                    <a:lnTo>
                      <a:pt x="111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2" y="77"/>
                    </a:lnTo>
                    <a:lnTo>
                      <a:pt x="112" y="76"/>
                    </a:lnTo>
                    <a:lnTo>
                      <a:pt x="112" y="76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6"/>
                    </a:lnTo>
                    <a:lnTo>
                      <a:pt x="111" y="76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7" y="71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1"/>
                    </a:lnTo>
                    <a:lnTo>
                      <a:pt x="106" y="71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3" y="73"/>
                    </a:lnTo>
                    <a:lnTo>
                      <a:pt x="103" y="72"/>
                    </a:lnTo>
                    <a:lnTo>
                      <a:pt x="103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0" y="72"/>
                    </a:lnTo>
                    <a:lnTo>
                      <a:pt x="99" y="70"/>
                    </a:lnTo>
                    <a:lnTo>
                      <a:pt x="99" y="70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47720" y="2878560"/>
                <a:ext cx="1427400" cy="116100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41" y="71"/>
                    </a:moveTo>
                    <a:lnTo>
                      <a:pt x="41" y="72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6"/>
                    </a:lnTo>
                    <a:lnTo>
                      <a:pt x="42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4" y="75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48" y="74"/>
                    </a:lnTo>
                    <a:lnTo>
                      <a:pt x="48" y="75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6"/>
                    </a:lnTo>
                    <a:lnTo>
                      <a:pt x="50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3" y="79"/>
                    </a:lnTo>
                    <a:lnTo>
                      <a:pt x="54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80"/>
                    </a:lnTo>
                    <a:lnTo>
                      <a:pt x="62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4" y="81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1"/>
                    </a:lnTo>
                    <a:lnTo>
                      <a:pt x="67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70" y="81"/>
                    </a:lnTo>
                    <a:lnTo>
                      <a:pt x="70" y="81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3" y="78"/>
                    </a:lnTo>
                    <a:lnTo>
                      <a:pt x="73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3" y="74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3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5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69"/>
                    </a:lnTo>
                    <a:lnTo>
                      <a:pt x="74" y="68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6" y="67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5"/>
                    </a:lnTo>
                    <a:lnTo>
                      <a:pt x="76" y="65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3"/>
                    </a:lnTo>
                    <a:lnTo>
                      <a:pt x="77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6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7" y="48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7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80" y="42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3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4" y="20"/>
                    </a:lnTo>
                    <a:lnTo>
                      <a:pt x="73" y="20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8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9" y="61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1" y="67"/>
                    </a:lnTo>
                    <a:lnTo>
                      <a:pt x="21" y="67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8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4"/>
                    </a:lnTo>
                    <a:lnTo>
                      <a:pt x="39" y="74"/>
                    </a:lnTo>
                    <a:lnTo>
                      <a:pt x="41" y="73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79800" y="4581720"/>
                <a:ext cx="1734120" cy="1400760"/>
              </a:xfrm>
              <a:custGeom>
                <a:avLst/>
                <a:gdLst/>
                <a:ahLst/>
                <a:rect l="l" t="t" r="r" b="b"/>
                <a:pathLst>
                  <a:path w="103" h="99">
                    <a:moveTo>
                      <a:pt x="19" y="58"/>
                    </a:moveTo>
                    <a:lnTo>
                      <a:pt x="19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5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9" y="12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0"/>
                    </a:lnTo>
                    <a:lnTo>
                      <a:pt x="93" y="10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9" y="20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5"/>
                    </a:lnTo>
                    <a:lnTo>
                      <a:pt x="101" y="25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8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1" y="29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2" y="32"/>
                    </a:lnTo>
                    <a:lnTo>
                      <a:pt x="103" y="32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5"/>
                    </a:lnTo>
                    <a:lnTo>
                      <a:pt x="95" y="34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3"/>
                    </a:lnTo>
                    <a:lnTo>
                      <a:pt x="94" y="43"/>
                    </a:lnTo>
                    <a:lnTo>
                      <a:pt x="93" y="43"/>
                    </a:lnTo>
                    <a:lnTo>
                      <a:pt x="94" y="43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1" y="46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7" y="55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8" y="57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4" y="63"/>
                    </a:lnTo>
                    <a:lnTo>
                      <a:pt x="85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5" y="63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2" y="68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69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80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3" y="78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2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5" y="91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1" y="94"/>
                    </a:lnTo>
                    <a:lnTo>
                      <a:pt x="71" y="95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69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3" y="96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6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4"/>
                    </a:lnTo>
                    <a:lnTo>
                      <a:pt x="56" y="84"/>
                    </a:lnTo>
                    <a:lnTo>
                      <a:pt x="55" y="84"/>
                    </a:lnTo>
                    <a:lnTo>
                      <a:pt x="55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1" y="83"/>
                    </a:lnTo>
                    <a:lnTo>
                      <a:pt x="51" y="83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0" y="79"/>
                    </a:lnTo>
                    <a:lnTo>
                      <a:pt x="50" y="78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5"/>
                    </a:lnTo>
                    <a:lnTo>
                      <a:pt x="55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8" y="71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6"/>
                    </a:lnTo>
                    <a:lnTo>
                      <a:pt x="51" y="66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0" y="67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7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" y="71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3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8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8280" y="5047920"/>
                <a:ext cx="1027800" cy="99936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11" y="34"/>
                    </a:move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9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5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6" y="71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4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6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9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8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23800" y="5078160"/>
                <a:ext cx="1122840" cy="141804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8" y="30"/>
                    </a:moveTo>
                    <a:lnTo>
                      <a:pt x="18" y="30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6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3" y="21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1" y="23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0" y="29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61" y="29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6" y="33"/>
                    </a:lnTo>
                    <a:lnTo>
                      <a:pt x="66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3" y="39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51" y="40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8" y="43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7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7" y="49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5"/>
                    </a:lnTo>
                    <a:lnTo>
                      <a:pt x="46" y="55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44" y="55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7"/>
                    </a:lnTo>
                    <a:lnTo>
                      <a:pt x="44" y="57"/>
                    </a:lnTo>
                    <a:lnTo>
                      <a:pt x="43" y="57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6"/>
                    </a:lnTo>
                    <a:lnTo>
                      <a:pt x="42" y="67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5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3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0" y="76"/>
                    </a:lnTo>
                    <a:lnTo>
                      <a:pt x="50" y="77"/>
                    </a:lnTo>
                    <a:lnTo>
                      <a:pt x="50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6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5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7" y="99"/>
                    </a:lnTo>
                    <a:lnTo>
                      <a:pt x="37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7"/>
                    </a:lnTo>
                    <a:lnTo>
                      <a:pt x="37" y="97"/>
                    </a:lnTo>
                    <a:lnTo>
                      <a:pt x="36" y="97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1" y="91"/>
                    </a:lnTo>
                    <a:lnTo>
                      <a:pt x="31" y="91"/>
                    </a:lnTo>
                    <a:lnTo>
                      <a:pt x="31" y="90"/>
                    </a:lnTo>
                    <a:lnTo>
                      <a:pt x="31" y="90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0" y="87"/>
                    </a:lnTo>
                    <a:lnTo>
                      <a:pt x="30" y="87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4" y="82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3" y="81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2" y="79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1" y="71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19" y="70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6" y="55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6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2250360"/>
                <a:ext cx="1569960" cy="169452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87" y="34"/>
                    </a:move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29"/>
                    </a:lnTo>
                    <a:lnTo>
                      <a:pt x="87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7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5" y="26"/>
                    </a:lnTo>
                    <a:lnTo>
                      <a:pt x="85" y="26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9"/>
                    </a:lnTo>
                    <a:lnTo>
                      <a:pt x="87" y="19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7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4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0"/>
                    </a:lnTo>
                    <a:lnTo>
                      <a:pt x="86" y="10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7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4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3" y="96"/>
                    </a:lnTo>
                    <a:lnTo>
                      <a:pt x="2" y="97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9"/>
                    </a:lnTo>
                    <a:lnTo>
                      <a:pt x="6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2"/>
                    </a:lnTo>
                    <a:lnTo>
                      <a:pt x="9" y="111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1" y="113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2" y="115"/>
                    </a:lnTo>
                    <a:lnTo>
                      <a:pt x="12" y="114"/>
                    </a:lnTo>
                    <a:lnTo>
                      <a:pt x="12" y="115"/>
                    </a:lnTo>
                    <a:lnTo>
                      <a:pt x="12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7" y="118"/>
                    </a:lnTo>
                    <a:lnTo>
                      <a:pt x="17" y="118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1" y="117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3" y="114"/>
                    </a:lnTo>
                    <a:lnTo>
                      <a:pt x="23" y="114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3" y="112"/>
                    </a:lnTo>
                    <a:lnTo>
                      <a:pt x="23" y="112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7" y="103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36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8" y="102"/>
                    </a:lnTo>
                    <a:lnTo>
                      <a:pt x="39" y="101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1" y="101"/>
                    </a:lnTo>
                    <a:lnTo>
                      <a:pt x="41" y="100"/>
                    </a:lnTo>
                    <a:lnTo>
                      <a:pt x="41" y="100"/>
                    </a:lnTo>
                    <a:lnTo>
                      <a:pt x="40" y="100"/>
                    </a:lnTo>
                    <a:lnTo>
                      <a:pt x="40" y="100"/>
                    </a:lnTo>
                    <a:lnTo>
                      <a:pt x="40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7"/>
                    </a:lnTo>
                    <a:lnTo>
                      <a:pt x="39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8"/>
                    </a:lnTo>
                    <a:lnTo>
                      <a:pt x="41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7"/>
                    </a:lnTo>
                    <a:lnTo>
                      <a:pt x="42" y="97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4" y="95"/>
                    </a:lnTo>
                    <a:lnTo>
                      <a:pt x="44" y="95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4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9" y="94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2" y="95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4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1"/>
                    </a:lnTo>
                    <a:lnTo>
                      <a:pt x="56" y="91"/>
                    </a:lnTo>
                    <a:lnTo>
                      <a:pt x="55" y="91"/>
                    </a:lnTo>
                    <a:lnTo>
                      <a:pt x="55" y="91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60" y="87"/>
                    </a:lnTo>
                    <a:lnTo>
                      <a:pt x="60" y="87"/>
                    </a:lnTo>
                    <a:lnTo>
                      <a:pt x="61" y="87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2"/>
                    </a:lnTo>
                    <a:lnTo>
                      <a:pt x="70" y="92"/>
                    </a:lnTo>
                    <a:lnTo>
                      <a:pt x="70" y="92"/>
                    </a:lnTo>
                    <a:lnTo>
                      <a:pt x="71" y="91"/>
                    </a:lnTo>
                    <a:lnTo>
                      <a:pt x="71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89"/>
                    </a:lnTo>
                    <a:lnTo>
                      <a:pt x="74" y="89"/>
                    </a:lnTo>
                    <a:lnTo>
                      <a:pt x="75" y="89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8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6" y="86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3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80" y="83"/>
                    </a:lnTo>
                    <a:lnTo>
                      <a:pt x="80" y="83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2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1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3" y="79"/>
                    </a:lnTo>
                    <a:lnTo>
                      <a:pt x="83" y="79"/>
                    </a:lnTo>
                    <a:lnTo>
                      <a:pt x="83" y="78"/>
                    </a:lnTo>
                    <a:lnTo>
                      <a:pt x="83" y="78"/>
                    </a:lnTo>
                    <a:lnTo>
                      <a:pt x="84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4" y="77"/>
                    </a:lnTo>
                    <a:lnTo>
                      <a:pt x="84" y="77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5" y="76"/>
                    </a:lnTo>
                    <a:lnTo>
                      <a:pt x="85" y="76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4" y="73"/>
                    </a:lnTo>
                    <a:lnTo>
                      <a:pt x="84" y="73"/>
                    </a:lnTo>
                    <a:lnTo>
                      <a:pt x="83" y="73"/>
                    </a:lnTo>
                    <a:lnTo>
                      <a:pt x="83" y="72"/>
                    </a:lnTo>
                    <a:lnTo>
                      <a:pt x="83" y="72"/>
                    </a:lnTo>
                    <a:lnTo>
                      <a:pt x="82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0" y="72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80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4" y="64"/>
                    </a:lnTo>
                    <a:lnTo>
                      <a:pt x="84" y="64"/>
                    </a:lnTo>
                    <a:lnTo>
                      <a:pt x="84" y="63"/>
                    </a:lnTo>
                    <a:lnTo>
                      <a:pt x="84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0"/>
                    </a:lnTo>
                    <a:lnTo>
                      <a:pt x="86" y="60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7" y="56"/>
                    </a:lnTo>
                    <a:lnTo>
                      <a:pt x="86" y="56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0" y="52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0" y="44"/>
                    </a:lnTo>
                    <a:lnTo>
                      <a:pt x="90" y="44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1" y="41"/>
                    </a:lnTo>
                    <a:lnTo>
                      <a:pt x="91" y="41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0"/>
                    </a:lnTo>
                    <a:lnTo>
                      <a:pt x="93" y="40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2" y="38"/>
                    </a:lnTo>
                    <a:lnTo>
                      <a:pt x="92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0" y="38"/>
                    </a:lnTo>
                    <a:lnTo>
                      <a:pt x="90" y="38"/>
                    </a:lnTo>
                    <a:lnTo>
                      <a:pt x="90" y="37"/>
                    </a:lnTo>
                    <a:lnTo>
                      <a:pt x="89" y="37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84840" y="1982880"/>
                <a:ext cx="1628280" cy="11527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26" y="6"/>
                    </a:moveTo>
                    <a:lnTo>
                      <a:pt x="26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6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31" y="76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3" y="75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7" y="70"/>
                    </a:lnTo>
                    <a:lnTo>
                      <a:pt x="37" y="70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4" y="65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3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5"/>
                    </a:lnTo>
                    <a:lnTo>
                      <a:pt x="51" y="65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59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6" y="68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1" y="66"/>
                    </a:lnTo>
                    <a:lnTo>
                      <a:pt x="71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0" y="69"/>
                    </a:lnTo>
                    <a:lnTo>
                      <a:pt x="70" y="69"/>
                    </a:lnTo>
                    <a:lnTo>
                      <a:pt x="70" y="70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2" y="71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9" y="71"/>
                    </a:lnTo>
                    <a:lnTo>
                      <a:pt x="80" y="71"/>
                    </a:lnTo>
                    <a:lnTo>
                      <a:pt x="82" y="71"/>
                    </a:lnTo>
                    <a:lnTo>
                      <a:pt x="84" y="72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69"/>
                    </a:lnTo>
                    <a:lnTo>
                      <a:pt x="84" y="68"/>
                    </a:lnTo>
                    <a:lnTo>
                      <a:pt x="84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6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6" y="64"/>
                    </a:lnTo>
                    <a:lnTo>
                      <a:pt x="86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91" y="57"/>
                    </a:lnTo>
                    <a:lnTo>
                      <a:pt x="91" y="57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3" y="58"/>
                    </a:lnTo>
                    <a:lnTo>
                      <a:pt x="93" y="59"/>
                    </a:lnTo>
                    <a:lnTo>
                      <a:pt x="94" y="57"/>
                    </a:lnTo>
                    <a:lnTo>
                      <a:pt x="93" y="57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4" y="49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6"/>
                    </a:lnTo>
                    <a:lnTo>
                      <a:pt x="90" y="46"/>
                    </a:lnTo>
                    <a:lnTo>
                      <a:pt x="89" y="46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6" y="45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5"/>
                    </a:lnTo>
                    <a:lnTo>
                      <a:pt x="86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4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3"/>
                    </a:lnTo>
                    <a:lnTo>
                      <a:pt x="85" y="33"/>
                    </a:lnTo>
                    <a:lnTo>
                      <a:pt x="84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3" y="31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5" y="29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8" y="27"/>
                    </a:lnTo>
                    <a:lnTo>
                      <a:pt x="89" y="27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4" y="23"/>
                    </a:lnTo>
                    <a:lnTo>
                      <a:pt x="95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20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4"/>
                    </a:lnTo>
                    <a:lnTo>
                      <a:pt x="63" y="24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0" y="23"/>
                    </a:lnTo>
                    <a:lnTo>
                      <a:pt x="60" y="22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59" y="18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5" y="10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7" y="12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4" y="8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1640" y="3487320"/>
                <a:ext cx="1114200" cy="1476360"/>
              </a:xfrm>
              <a:custGeom>
                <a:avLst/>
                <a:gdLst/>
                <a:ahLst/>
                <a:rect l="l" t="t" r="r" b="b"/>
                <a:pathLst>
                  <a:path w="66" h="104">
                    <a:moveTo>
                      <a:pt x="49" y="64"/>
                    </a:moveTo>
                    <a:lnTo>
                      <a:pt x="49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46" y="61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5" y="53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5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9"/>
                    </a:lnTo>
                    <a:lnTo>
                      <a:pt x="25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8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4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9"/>
                    </a:lnTo>
                    <a:lnTo>
                      <a:pt x="39" y="98"/>
                    </a:lnTo>
                    <a:lnTo>
                      <a:pt x="39" y="99"/>
                    </a:lnTo>
                    <a:lnTo>
                      <a:pt x="39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3" y="92"/>
                    </a:lnTo>
                    <a:lnTo>
                      <a:pt x="43" y="92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0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6" y="85"/>
                    </a:lnTo>
                    <a:lnTo>
                      <a:pt x="47" y="85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8" y="79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1" y="84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4"/>
                    </a:lnTo>
                    <a:lnTo>
                      <a:pt x="62" y="84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2"/>
                    </a:lnTo>
                    <a:lnTo>
                      <a:pt x="64" y="82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5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6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2" y="72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0" y="70"/>
                    </a:lnTo>
                    <a:lnTo>
                      <a:pt x="60" y="70"/>
                    </a:lnTo>
                    <a:lnTo>
                      <a:pt x="60" y="71"/>
                    </a:lnTo>
                    <a:lnTo>
                      <a:pt x="60" y="71"/>
                    </a:lnTo>
                    <a:lnTo>
                      <a:pt x="60" y="72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58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8"/>
                    </a:lnTo>
                    <a:lnTo>
                      <a:pt x="55" y="68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2762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3760" y="2440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9480" y="25542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910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91160" y="3811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6480" y="32400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90680" y="3925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2160" y="4154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080" y="4954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5297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8160" y="541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8080" y="5869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1080" y="57546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96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6680" y="5068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22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3480" y="6326280"/>
              <a:ext cx="800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ykonane zabieg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ku 2008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2.30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biodr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4.4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26.425 endoprotez całkowitych, 8.073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kolan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77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.220 endoprotez całkowitych, 557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łokciowego –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ramienn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innych stawów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anty kręgosłupa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68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4 świadczeniodawców wykonało ponad 150 wszczepów endoprotez biodrowych. Są to głównie szpitale kliniczn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27% świadczeniodawców dokonujących alloplastyk stawu biodrowego wykonało w ciągu 2008 roku mniej niż 50 tego rodzaju operacji, a 4 świadczeniodawców wszczepiło mniej niż 10 endoprotez stawu biodrow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291 świadczeniodawców 27 placówek dokonało wyłącznie wszczepów części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biodr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dzielny Publiczny Szpital Kliniczny im. Prof. A. Gruc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twocku – 1.191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66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-Rehabilitacyjny Szpital Kliniczny im. Wiktora Degi Uniwersytetu Medycznego Poznań-Wilda – 818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eracje rewizyjne stanowi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rejestrowanych w roku 2008 wszczepów endoprotez stawu biodr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cej operacji rewizyjnych w zakresie endoprotezoplastyki stawu biodrowego wykona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 Kliniczny Dzieciątka Jezus  w Warszawie – 1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Kliniczny im. Prof. A. Grucy w Otwocku – 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24"/>
              </a:spcBef>
              <a:spcAft>
                <a:spcPts val="524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9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świadczeniodawców wszczepiło w 2008 roku więcej niż 150 endoprotez stawu kolan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74% ze wszystkich 179 świadczeniodawców wykonało mniej niż 50 alloplastyk stawu kolanowego w ciągu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7 wykonało mniej niż 25 wszcze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kolan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 - Rehabilitacyjny Szpital Kliniczny im. Wiktora Degi Uniwersytetu Medycznego w Poznaniu-Wildzie – 407 zabiegów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kowskie Centrum Rehabilitacji w Krakowie – 294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ubliczny Zakład Opieki Zdrowotnej Szpital Specjalistyczn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. Świętej Rodziny w Rudnej Małej w województwie podkarpackim – 225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Implanty kręgosłup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zczepiających największą liczbę implantów kręgosłup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667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Wojskowy Szpital Kliniczny z Polikliniką - SP ZOZ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Bydgoszczy – 626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cki Szpital Ortopedyczno-Rehabilitacyjny w Zakopanem – 506 proced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rzyczyny operacj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biod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koksartroza (M16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amanie szyjki kości udowej (S72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koksartrozy (M16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kolan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gonartroza (M17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gonartrozy (M17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spcAft>
                <a:spcPts val="112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uzdrowisk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50% poradni nie czeka się na wizytę dłużej niż: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neurologa – 1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ologa – 16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alergologa – 17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chirurga ortopedy – 19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kulisty – 19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kardiologa – 4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endokrynologa – 50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463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poradni dermatologicznych, laryngologicz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ginekologiczno-położnicz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czas oczekiwania na przyjęcie do oddziału szpitalnego u 50% świadczeniodawców nie jest dłuższy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urazowo-ortopedycznej – 48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tolaryngologicznego – 5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ogólnej – 14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kulistycznego – 3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reumatologicznego – 79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urologicznego – 15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gastroenterologicznego – 27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plastycznej – 52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oddziałów chorób wewnętrznych i chirurgii jednego d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 50% świadczeniodawców, na wykonanie badań diagnostycznych nie czeka się dłużej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omografię komputerową – 27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echokardiografię – 11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rezonans magnetyczny – 70 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NFZ</cp:lastModifiedBy>
  <dcterms:modified xsi:type="dcterms:W3CDTF">2009-08-17T10:11:46Z</dcterms:modified>
  <cp:revision>57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