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C645-34D4-4581-B4D9-85ECFF35F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24EF-BF3B-48CC-B548-3997B2D18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1EC4-A517-49A1-B1CA-FA73BA36D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3116-EC3F-4781-A455-5D3108183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D02F-130E-450A-910C-F66DDECFCC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215A-2201-41D1-86D7-D5B62D5E68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A9D5-ED39-4041-9492-38DDC6F289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CD24-9DA8-440D-8D18-6AEF07FE10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64AD-94BE-4A07-891A-EE2B6766CA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980E-7FD5-44A6-9CDF-E46A5DD8A9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CF7C-FF3D-4056-BEE9-5EEEFF74A4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5C9C-F1FD-4287-8980-49FA05478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3D78-E22E-454D-B941-A19100349E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0882-1B8B-4A65-BEE9-8AEDA0F0C3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C6F3-7BE1-41C9-BB1C-4F28AAC803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72D3-D252-46C2-9968-0312E13E38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628A-2C21-4B9D-B278-9C3ECE1E7D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DA1-19EE-4B76-AFF9-50EC763BE5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5CC-5B3C-42E2-B121-FC96864113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ED9-AC97-43E5-AEF1-A810C9A7B5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148-2C18-4AFB-838A-0C16D1661A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410-9E1E-4A7D-9654-3D9DF09D02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D3DE-1DD4-472D-AD61-9C5BA31B2B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31B-08A3-47F6-94E7-6D786F3FD9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80D-229D-4B7B-9BEC-3CF943C895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A02-8E09-4360-B86D-4DA431C7DF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881-C041-4725-81A1-27B5D247EC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AB1-540B-4359-A4C8-0C11FEC02F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264-CFD4-48AB-A0E9-4CEEA0A4A9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2BD-3BAF-41B3-82FA-27A5641FC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11AC-A479-4C9B-A413-B17BB73EB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9A1C-DDF8-42AA-B377-056E7DA21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84B4-84E1-4204-8507-1C27FEF0B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B31E-55F3-447A-8A85-6BBD09AAF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7DFC-A46F-4E1F-90A6-21FAC4E49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A846-E994-47F7-AE0F-B52BDE2D8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7F75-9AEE-4A62-A49E-E78E3C1C852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40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43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9CD-8201-4EA9-9C75-20B20BB0DF8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84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0C71-6304-4E5A-B9FC-8B5E6BD6C88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7665-4CE3-4BF2-8F54-83BA80E10643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Personalne listy pacjentów oczekujących </a:t>
            </a:r>
            <a:br>
              <a:rPr sz="3200"/>
            </a:b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na wybrane świadczenia opieki zdrowotnej    </a:t>
            </a:r>
            <a:endParaRPr b="1" lang="en-US" sz="32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4343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Angelika Milkiewicz-Ławicka 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czelnik Wydziału Spraw Świadczeniobiorców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Zachodniopomorski Oddział Wojewódzki  NFZ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Szczecin, 18 września 2009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087560" y="368460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af39"/>
                </a:solidFill>
                <a:latin typeface="Times New Roman"/>
              </a:rPr>
              <a:t>Seminarium z udziałem Federacji Pacjentów Polskich</a:t>
            </a:r>
            <a:endParaRPr b="1" lang="en-US" sz="2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Cel prowadzenia personalnych list pacjentów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86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 głów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ówny, niedyskryminujący i przejrzysty dostęp do świadcze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e szczegół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nitorowanie czasu oczekiwania na świadczeni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a dostępności do lecz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zetelna informacja dla pacjent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ciwdziałanie korup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kreślania zapotrzebowania na świadczenia zdrowot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owadzenie listy jest obowiązkiem ustawowy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Arial"/>
              </a:rPr>
              <a:t>Zasady zapisywania na listę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880" y="1371600"/>
            <a:ext cx="76197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dzielanie świadczeń według kolejności zgłoszen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2. Wpis na listę oczekujących wg. kategorii medycznej, od  której zależy termin realizacji świadczen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pilny – ze względu na dynamikę procesu chorobowego i możliwość szybkiego pogorszenia stanu zdrowia lub znaczącego zmniejszenia szans na powrót do zdrow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stabil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3. Nagłe pogorszenie stanu zdrowia - prawo do zmi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terminu lecz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. Prowadzenie wpisów - na bieżąco, w dniu zgłoszenia do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Przekazywanie do NFZ personalnych list pacjentów z dokładnością do numeru PESEL 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kwietnia 2008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na endoprotezoplastykę stawu biodrowego i kolan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wszczepianie implantów kręgosłu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stycznia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sunięcia zać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ngioplasty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1235-1649-4D78-A98B-EA455A5BF6E7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Przypadki </a:t>
            </a:r>
            <a:r>
              <a:rPr b="1" lang="pl-PL" sz="3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ykreślone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z listy oczekujących w efekcie  weryfikacji prowadzonej od kwietnia 2008 -  do czerwca 2009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838080" y="2057400"/>
          <a:ext cx="7283520" cy="33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835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Efekt weryfikacji personalnych list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zwoliła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usunąć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z list oczekujących na endoprotezoplastykę 1.194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PESELE powtarzające się więcej niż dwa raz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kazała, że średni wykazywany czas oczekiwania wynoszący 1.089 dni jest w rzeczywistości prawie trzy razy krótszy i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wynosi  329 dni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Fundusz nie finansuje planowych zabiegów endoprotezoplastyki, które wykonano z pominięciem list oczekując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Obecny czas oczekiwania na endoprotezę 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biodrowe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6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6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n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5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- 351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kolan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4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7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ne- 100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 – 288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Korzyści z personalizacji lis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zetelna i wiarygodna informacja o udzielanych świadczeniach zarówno dla pacjenta, jak i dla NF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ane rzeczywiste, a nie orientacyj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ealne skrócenie czasu oczekiwania na wykonanie świadczenia poprzez możliwość wyboru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zięki identyfikacji pacjenta – realne skrócenie list oczekujących (pacjent oczekujący do jednego, a nie do kilku świadczeniodawc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7:43:08Z</dcterms:created>
  <dc:creator>MZydorowicz Biuro Dyrektora</dc:creator>
  <dc:description/>
  <dc:language>en-US</dc:language>
  <cp:lastModifiedBy>MKoszur</cp:lastModifiedBy>
  <cp:lastPrinted>2005-05-18T05:49:40Z</cp:lastPrinted>
  <dcterms:modified xsi:type="dcterms:W3CDTF">2009-09-18T13:26:13Z</dcterms:modified>
  <cp:revision>680</cp:revision>
  <dc:subject/>
  <dc:title>Prezentacja programu PowerPoint</dc:title>
</cp:coreProperties>
</file>